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7.jpeg" ContentType="image/jpeg"/>
  <Override PartName="/ppt/media/image126.jpeg" ContentType="image/jpeg"/>
  <Override PartName="/ppt/media/image125.jpeg" ContentType="image/jpeg"/>
  <Override PartName="/ppt/media/image124.jpeg" ContentType="image/jpeg"/>
  <Override PartName="/ppt/media/image123.jpeg" ContentType="image/jpeg"/>
  <Override PartName="/ppt/media/image122.jpeg" ContentType="image/jpeg"/>
  <Override PartName="/ppt/media/image121.jpeg" ContentType="image/jpeg"/>
  <Override PartName="/ppt/media/image115.jpeg" ContentType="image/jpeg"/>
  <Override PartName="/ppt/media/image114.jpeg" ContentType="image/jpeg"/>
  <Override PartName="/ppt/media/image113.jpeg" ContentType="image/jpeg"/>
  <Override PartName="/ppt/media/image99.jpeg" ContentType="image/jpeg"/>
  <Override PartName="/ppt/media/image96.jpeg" ContentType="image/jpeg"/>
  <Override PartName="/ppt/media/image95.jpeg" ContentType="image/jpeg"/>
  <Override PartName="/ppt/media/image94.jpeg" ContentType="image/jpeg"/>
  <Override PartName="/ppt/media/image93.jpeg" ContentType="image/jpeg"/>
  <Override PartName="/ppt/media/image112.jpeg" ContentType="image/jpeg"/>
  <Override PartName="/ppt/media/image92.jpeg" ContentType="image/jpeg"/>
  <Override PartName="/ppt/media/image19.jpeg" ContentType="image/jpeg"/>
  <Override PartName="/ppt/media/image111.jpeg" ContentType="image/jpeg"/>
  <Override PartName="/ppt/media/image91.jpeg" ContentType="image/jpeg"/>
  <Override PartName="/ppt/media/image18.jpeg" ContentType="image/jpeg"/>
  <Override PartName="/ppt/media/image110.jpeg" ContentType="image/jpeg"/>
  <Override PartName="/ppt/media/image90.jpeg" ContentType="image/jpeg"/>
  <Override PartName="/ppt/media/image17.jpeg" ContentType="image/jpeg"/>
  <Override PartName="/ppt/media/image76.jpeg" ContentType="image/jpeg"/>
  <Override PartName="/ppt/media/image75.jpeg" ContentType="image/jpeg"/>
  <Override PartName="/ppt/media/image74.jpeg" ContentType="image/jpeg"/>
  <Override PartName="/ppt/media/image73.jpeg" ContentType="image/jpeg"/>
  <Override PartName="/ppt/media/image72.jpeg" ContentType="image/jpeg"/>
  <Override PartName="/ppt/media/image10.jpeg" ContentType="image/jpeg"/>
  <Override PartName="/ppt/media/image27.jpeg" ContentType="image/jpeg"/>
  <Override PartName="/ppt/media/image86.jpeg" ContentType="image/jpeg"/>
  <Override PartName="/ppt/media/image106.jpeg" ContentType="image/jpeg"/>
  <Override PartName="/ppt/media/image98.jpeg" ContentType="image/jpeg"/>
  <Override PartName="/ppt/media/image39.jpeg" ContentType="image/jpeg"/>
  <Override PartName="/ppt/media/image13.jpeg" ContentType="image/jpeg"/>
  <Override PartName="/ppt/media/image40.jpeg" ContentType="image/jpeg"/>
  <Override PartName="/ppt/media/image87.jpeg" ContentType="image/jpeg"/>
  <Override PartName="/ppt/media/image11.jpeg" ContentType="image/jpeg"/>
  <Override PartName="/ppt/media/image107.jpeg" ContentType="image/jpeg"/>
  <Override PartName="/ppt/media/image28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48.jpeg" ContentType="image/jpeg"/>
  <Override PartName="/ppt/media/image49.jpeg" ContentType="image/jpeg"/>
  <Override PartName="/ppt/media/image55.jpeg" ContentType="image/jpeg"/>
  <Override PartName="/ppt/media/image134.jpeg" ContentType="image/jpeg"/>
  <Override PartName="/ppt/media/image146.jpeg" ContentType="image/jpeg"/>
  <Override PartName="/ppt/media/image152.jpeg" ContentType="image/jpeg"/>
  <Override PartName="/ppt/media/image56.jpeg" ContentType="image/jpeg"/>
  <Override PartName="/ppt/media/image135.jpeg" ContentType="image/jpeg"/>
  <Override PartName="/ppt/media/image147.jpeg" ContentType="image/jpeg"/>
  <Override PartName="/ppt/media/image130.jpeg" ContentType="image/jpeg"/>
  <Override PartName="/ppt/media/image51.jpeg" ContentType="image/jpeg"/>
  <Override PartName="/ppt/media/image153.jpeg" ContentType="image/jpeg"/>
  <Override PartName="/ppt/media/image57.jpeg" ContentType="image/jpeg"/>
  <Override PartName="/ppt/media/image136.jpeg" ContentType="image/jpeg"/>
  <Override PartName="/ppt/media/image148.jpeg" ContentType="image/jpeg"/>
  <Override PartName="/ppt/media/image131.jpeg" ContentType="image/jpeg"/>
  <Override PartName="/ppt/media/image52.jpeg" ContentType="image/jpeg"/>
  <Override PartName="/ppt/media/image58.jpeg" ContentType="image/jpeg"/>
  <Override PartName="/ppt/media/image137.jpeg" ContentType="image/jpeg"/>
  <Override PartName="/ppt/media/image149.jpeg" ContentType="image/jpeg"/>
  <Override PartName="/ppt/media/image53.jpeg" ContentType="image/jpeg"/>
  <Override PartName="/ppt/media/image132.jpeg" ContentType="image/jpeg"/>
  <Override PartName="/ppt/media/image150.jpeg" ContentType="image/jpeg"/>
  <Override PartName="/ppt/media/image71.jpeg" ContentType="image/jpeg"/>
  <Override PartName="/ppt/media/image144.jpeg" ContentType="image/jpeg"/>
  <Override PartName="/ppt/media/image151.jpeg" ContentType="image/jpeg"/>
  <Override PartName="/ppt/media/image54.jpeg" ContentType="image/jpeg"/>
  <Override PartName="/ppt/media/image133.jpeg" ContentType="image/jpeg"/>
  <Override PartName="/ppt/media/image145.jpeg" ContentType="image/jpeg"/>
  <Override PartName="/ppt/media/image8.jpeg" ContentType="image/jpeg"/>
  <Override PartName="/ppt/media/image156.jpeg" ContentType="image/jpeg"/>
  <Override PartName="/ppt/media/image60.jpeg" ContentType="image/jpeg"/>
  <Override PartName="/ppt/media/image77.jpeg" ContentType="image/jpeg"/>
  <Override PartName="/ppt/media/image143.jpeg" ContentType="image/jpeg"/>
  <Override PartName="/ppt/media/image142.jpeg" ContentType="image/jpeg"/>
  <Override PartName="/ppt/media/image141.jpeg" ContentType="image/jpeg"/>
  <Override PartName="/ppt/media/image140.jpeg" ContentType="image/jpeg"/>
  <Override PartName="/ppt/media/image47.jpeg" ContentType="image/jpeg"/>
  <Override PartName="/ppt/media/image138.jpeg" ContentType="image/jpeg"/>
  <Override PartName="/ppt/media/image42.jpeg" ContentType="image/jpeg"/>
  <Override PartName="/ppt/media/image59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155.jpeg" ContentType="image/jpeg"/>
  <Override PartName="/ppt/media/image129.jpeg" ContentType="image/jpeg"/>
  <Override PartName="/ppt/media/image43.jpeg" ContentType="image/jpeg"/>
  <Override PartName="/ppt/media/image50.jpeg" ContentType="image/jpeg"/>
  <Override PartName="/ppt/media/image139.jpeg" ContentType="image/jpeg"/>
  <Override PartName="/ppt/media/image154.jpeg" ContentType="image/jpeg"/>
  <Override PartName="/ppt/media/image128.jpeg" ContentType="image/jpeg"/>
  <Override PartName="/ppt/media/image29.jpeg" ContentType="image/jpeg"/>
  <Override PartName="/ppt/media/image12.jpeg" ContentType="image/jpeg"/>
  <Override PartName="/ppt/media/image88.jpeg" ContentType="image/jpeg"/>
  <Override PartName="/ppt/media/image108.jpeg" ContentType="image/jpeg"/>
  <Override PartName="/ppt/media/image38.jpeg" ContentType="image/jpeg"/>
  <Override PartName="/ppt/media/image97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85.jpeg" ContentType="image/jpeg"/>
  <Override PartName="/ppt/media/image105.jpeg" ContentType="image/jpeg"/>
  <Override PartName="/ppt/media/image4.jpeg" ContentType="image/jpeg"/>
  <Override PartName="/ppt/media/image25.jpeg" ContentType="image/jpeg"/>
  <Override PartName="/ppt/media/image84.jpeg" ContentType="image/jpeg"/>
  <Override PartName="/ppt/media/image104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83.jpeg" ContentType="image/jpeg"/>
  <Override PartName="/ppt/media/image103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82.jpeg" ContentType="image/jpeg"/>
  <Override PartName="/ppt/media/image102.jpeg" ContentType="image/jpeg"/>
  <Override PartName="/ppt/media/image119.jpeg" ContentType="image/jpeg"/>
  <Override PartName="/ppt/media/image35.jpeg" ContentType="image/jpeg"/>
  <Override PartName="/ppt/media/image1.jpeg" ContentType="image/jpeg"/>
  <Override PartName="/ppt/media/image89.jpeg" ContentType="image/jpeg"/>
  <Override PartName="/ppt/media/image22.jpeg" ContentType="image/jpeg"/>
  <Override PartName="/ppt/media/image81.jpeg" ContentType="image/jpeg"/>
  <Override PartName="/ppt/media/image101.jpeg" ContentType="image/jpeg"/>
  <Override PartName="/ppt/media/image118.jpeg" ContentType="image/jpeg"/>
  <Override PartName="/ppt/media/image41.jpeg" ContentType="image/jpeg"/>
  <Override PartName="/ppt/media/image120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09.jpeg" ContentType="image/jpeg"/>
  <Override PartName="/ppt/media/image20.jpeg" ContentType="image/jpeg"/>
  <Override PartName="/ppt/media/image116.jpeg" ContentType="image/jpeg"/>
  <Override PartName="/ppt/media/image21.jpeg" ContentType="image/jpeg"/>
  <Override PartName="/ppt/media/image80.jpeg" ContentType="image/jpeg"/>
  <Override PartName="/ppt/media/image100.jpeg" ContentType="image/jpeg"/>
  <Override PartName="/ppt/media/image117.jpeg" ContentType="image/jpeg"/>
  <Override PartName="/ppt/media/image61.jpeg" ContentType="image/jpeg"/>
  <Override PartName="/ppt/media/image78.jpeg" ContentType="image/jpeg"/>
  <Override PartName="/ppt/media/image62.jpeg" ContentType="image/jpeg"/>
  <Override PartName="/ppt/media/image79.jpeg" ContentType="image/jpeg"/>
  <Override PartName="/ppt/media/image63.jpeg" ContentType="image/jpeg"/>
  <Override PartName="/ppt/media/image64.jpeg" ContentType="image/jpeg"/>
  <Override PartName="/ppt/media/image65.jpeg" ContentType="image/jpeg"/>
  <Override PartName="/ppt/media/image66.jpeg" ContentType="image/jpeg"/>
  <Override PartName="/ppt/media/image67.jpeg" ContentType="image/jpeg"/>
  <Override PartName="/ppt/media/image68.jpeg" ContentType="image/jpeg"/>
  <Override PartName="/ppt/media/image69.jpeg" ContentType="image/jpeg"/>
  <Override PartName="/ppt/media/image70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BE9EB-0656-455F-BDB8-D4BD8277A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70193-E237-4C4C-A990-277E39B5E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E0FC8-6540-4EC3-9172-D3A8C9928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A576D-624F-4FE7-A2B5-09E907E01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1DD7C-F61C-4675-902A-9068C42C1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A1EFF-824B-43BB-A71D-F17B59864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04C9A-F583-40B0-AF18-B2A3544C6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AB49A-E033-4678-8ED5-53653E6E2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EEBD3-F37E-4AA9-BFDE-51AA41332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283E3-3F23-456E-A3B8-C04E8CF9C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F043D-4A94-47BA-A2F8-CCABAFB5D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B3DB6-6E55-4C2D-8C59-24F8ACB9B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D702B-ABC1-469C-B106-1B57D8E74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DB037-BE80-45F9-BCF6-17D0E3A7B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85281-22D9-4D7C-9740-D7D966676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004B7-29C9-4733-B4A6-7AD5FD4B9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297E5-66C1-42C9-8150-ACA6CBBC5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95AF6-AB3F-45A9-8002-A9534E078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C459F-9259-4A42-91C9-C08B5D265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FE064-4568-4D1C-B971-0CFEB08EF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DA8BE-57DC-4C7B-84AD-BCA36AA92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D468A-4B49-4716-9AF8-83BC39F3A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54BA1-2BB7-4097-906E-F4F410AB1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A1BB5-9A4C-42D8-A281-FC67EBB4C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EBA57-5895-4E6C-8CBC-6DFD9438737F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C80B9-2697-4187-8AC9-5231A4F64989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amera.wav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hyperlink" Target="file:///tmp/home/.config/libreoffice/4/user/gallery/camera.wav" TargetMode="External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penexport.ro/ro/shop/imgprod/coacneg1a.jpg" TargetMode="External"/><Relationship Id="rId2" Type="http://schemas.openxmlformats.org/officeDocument/2006/relationships/image" Target="../media/image61.jpeg"/><Relationship Id="rId3" Type="http://schemas.openxmlformats.org/officeDocument/2006/relationships/hyperlink" Target="http://www.penexport.ro/ro/shop/imgprod/catina1a.jpg" TargetMode="External"/><Relationship Id="rId4" Type="http://schemas.openxmlformats.org/officeDocument/2006/relationships/image" Target="../media/image62.jpeg"/><Relationship Id="rId5" Type="http://schemas.openxmlformats.org/officeDocument/2006/relationships/hyperlink" Target="http://www.penexport.ro/ro/shop/imgprod/zmeura1a.jpg" TargetMode="External"/><Relationship Id="rId6" Type="http://schemas.openxmlformats.org/officeDocument/2006/relationships/image" Target="../media/image63.jpeg"/><Relationship Id="rId7" Type="http://schemas.openxmlformats.org/officeDocument/2006/relationships/hyperlink" Target="http://www.penexport.ro/ro/shop/imgprod/paducel1a.jpg" TargetMode="External"/><Relationship Id="rId8" Type="http://schemas.openxmlformats.org/officeDocument/2006/relationships/image" Target="../media/image64.jpeg"/><Relationship Id="rId9" Type="http://schemas.openxmlformats.org/officeDocument/2006/relationships/hyperlink" Target="http://www.carpati.org/poze_fotografii/--_muntele_nu_este_in_lista_--/fraguta/22152/" TargetMode="External"/><Relationship Id="rId10" Type="http://schemas.openxmlformats.org/officeDocument/2006/relationships/image" Target="../media/image65.jpeg"/><Relationship Id="rId11" Type="http://schemas.openxmlformats.org/officeDocument/2006/relationships/hyperlink" Target="file:///tmp/home/.config/libreoffice/4/user/gallery/camera.wav" TargetMode="External"/><Relationship Id="rId1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6.jpeg"/><Relationship Id="rId2" Type="http://schemas.openxmlformats.org/officeDocument/2006/relationships/hyperlink" Target="http://www.penexport.ro/ro/shop/imgprod/afine1a.jpg" TargetMode="External"/><Relationship Id="rId3" Type="http://schemas.openxmlformats.org/officeDocument/2006/relationships/image" Target="../media/image67.jpeg"/><Relationship Id="rId4" Type="http://schemas.openxmlformats.org/officeDocument/2006/relationships/image" Target="../media/image68.jpeg"/><Relationship Id="rId5" Type="http://schemas.openxmlformats.org/officeDocument/2006/relationships/hyperlink" Target="http://bp3.blogger.com/_od0KfUND3QQ/RwoWDqj11dI/AAAAAAAABZ8/EzUtqzi4s_E/s1600-h/toamna_apuseni_0040.jpg" TargetMode="External"/><Relationship Id="rId6" Type="http://schemas.openxmlformats.org/officeDocument/2006/relationships/image" Target="../media/image69.jpeg"/><Relationship Id="rId7" Type="http://schemas.openxmlformats.org/officeDocument/2006/relationships/hyperlink" Target="http://www.carpati.org/poze_fotografii/--_muntele_nu_este_in_lista_--/muraris/22149/" TargetMode="External"/><Relationship Id="rId8" Type="http://schemas.openxmlformats.org/officeDocument/2006/relationships/image" Target="../media/image70.jpeg"/><Relationship Id="rId9" Type="http://schemas.openxmlformats.org/officeDocument/2006/relationships/hyperlink" Target="file:///tmp/home/.config/libreoffice/4/user/gallery/camera.wav" TargetMode="External"/><Relationship Id="rId10" Type="http://schemas.openxmlformats.org/officeDocument/2006/relationships/hyperlink" Target="http://www.penexport.ro/ro/shop/imgprod/mure1a.jpg" TargetMode="External"/><Relationship Id="rId11" Type="http://schemas.openxmlformats.org/officeDocument/2006/relationships/image" Target="../media/image71.jpeg"/><Relationship Id="rId1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2.jpeg"/><Relationship Id="rId2" Type="http://schemas.openxmlformats.org/officeDocument/2006/relationships/image" Target="../media/image73.jpeg"/><Relationship Id="rId3" Type="http://schemas.openxmlformats.org/officeDocument/2006/relationships/hyperlink" Target="file:///tmp/home/.config/libreoffice/4/user/gallery/camera.wav" TargetMode="External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bp0.blogger.com/_od0KfUND3QQ/RrsSLdzmqOI/AAAAAAAAA4Y/1sVl2b9UQL4/s1600-h/galbiori_0305.jpg" TargetMode="External"/><Relationship Id="rId2" Type="http://schemas.openxmlformats.org/officeDocument/2006/relationships/image" Target="../media/image74.jpeg"/><Relationship Id="rId3" Type="http://schemas.openxmlformats.org/officeDocument/2006/relationships/hyperlink" Target="http://bp2.blogger.com/_od0KfUND3QQ/RrsSK9zmqMI/AAAAAAAAA4I/j_xVElRvU04/s1600-h/galbiori_0299.jpg" TargetMode="External"/><Relationship Id="rId4" Type="http://schemas.openxmlformats.org/officeDocument/2006/relationships/image" Target="../media/image75.jpeg"/><Relationship Id="rId5" Type="http://schemas.openxmlformats.org/officeDocument/2006/relationships/hyperlink" Target="http://www.carpati.org/poze_fotografii/--_muntele_nu_este_in_lista_--/ce_sa_fie_ce_sa_fie_ou_sau_ciuperca_/22161/" TargetMode="External"/><Relationship Id="rId6" Type="http://schemas.openxmlformats.org/officeDocument/2006/relationships/image" Target="../media/image76.jpeg"/><Relationship Id="rId7" Type="http://schemas.openxmlformats.org/officeDocument/2006/relationships/hyperlink" Target="http://www.carpati.org/poze_fotografii/--_muntele_nu_este_in_lista_--/palaria_sarpelui/22166/" TargetMode="External"/><Relationship Id="rId8" Type="http://schemas.openxmlformats.org/officeDocument/2006/relationships/image" Target="../media/image77.jpeg"/><Relationship Id="rId9" Type="http://schemas.openxmlformats.org/officeDocument/2006/relationships/hyperlink" Target="http://www.carpati.org/poze_fotografii/--_muntele_nu_este_in_lista_--/umbreluta/22160/" TargetMode="External"/><Relationship Id="rId10" Type="http://schemas.openxmlformats.org/officeDocument/2006/relationships/image" Target="../media/image78.jpeg"/><Relationship Id="rId11" Type="http://schemas.openxmlformats.org/officeDocument/2006/relationships/hyperlink" Target="file:///tmp/home/.config/libreoffice/4/user/gallery/camera.wav" TargetMode="External"/><Relationship Id="rId1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9.jpeg"/><Relationship Id="rId2" Type="http://schemas.openxmlformats.org/officeDocument/2006/relationships/image" Target="../media/image80.jpeg"/><Relationship Id="rId3" Type="http://schemas.openxmlformats.org/officeDocument/2006/relationships/hyperlink" Target="file:///tmp/home/.config/libreoffice/4/user/gallery/camera.wav" TargetMode="External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bp1.blogger.com/_od0KfUND3QQ/RwoYKKj11fI/AAAAAAAABaM/o0MMnER71IQ/s1600-h/toamna_apuseni_0051.jpg" TargetMode="External"/><Relationship Id="rId2" Type="http://schemas.openxmlformats.org/officeDocument/2006/relationships/image" Target="../media/image81.jpeg"/><Relationship Id="rId3" Type="http://schemas.openxmlformats.org/officeDocument/2006/relationships/hyperlink" Target="http://bp3.blogger.com/_od0KfUND3QQ/RwoYKqj11gI/AAAAAAAABaU/iFAnh5e24RQ/s1600-h/toamna_apuseni_0077.jpg" TargetMode="External"/><Relationship Id="rId4" Type="http://schemas.openxmlformats.org/officeDocument/2006/relationships/image" Target="../media/image82.jpeg"/><Relationship Id="rId5" Type="http://schemas.openxmlformats.org/officeDocument/2006/relationships/hyperlink" Target="http://www.carpati.org/poze_fotografii/--_muntele_nu_este_in_lista_--/batranete/22167/" TargetMode="External"/><Relationship Id="rId6" Type="http://schemas.openxmlformats.org/officeDocument/2006/relationships/image" Target="../media/image83.jpeg"/><Relationship Id="rId7" Type="http://schemas.openxmlformats.org/officeDocument/2006/relationships/image" Target="../media/image84.jpeg"/><Relationship Id="rId8" Type="http://schemas.openxmlformats.org/officeDocument/2006/relationships/hyperlink" Target="file:///tmp/home/.config/libreoffice/4/user/gallery/camera.wav" TargetMode="External"/><Relationship Id="rId9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5.jpeg"/><Relationship Id="rId2" Type="http://schemas.openxmlformats.org/officeDocument/2006/relationships/hyperlink" Target="file:///tmp/home/.config/libreoffice/4/user/gallery/camera.wav" TargetMode="External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6.jpeg"/><Relationship Id="rId2" Type="http://schemas.openxmlformats.org/officeDocument/2006/relationships/hyperlink" Target="file:///tmp/home/.config/libreoffice/4/user/gallery/camera.wav" TargetMode="Externa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doerr.ro/ro/impre2.htm" TargetMode="External"/><Relationship Id="rId2" Type="http://schemas.openxmlformats.org/officeDocument/2006/relationships/image" Target="../media/image87.jpeg"/><Relationship Id="rId3" Type="http://schemas.openxmlformats.org/officeDocument/2006/relationships/hyperlink" Target="file:///tmp/home/.config/libreoffice/4/user/gallery/camera.wav" TargetMode="External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es.google.ro/imgres?imgurl=http://www.dorupanaitescu.ro/wp-content/uploads/2007/05/pict1324.JPG&amp;imgrefurl=http://www.dorupanaitescu.ro/category/foto/page/2&amp;h=681&amp;w=1024&amp;sz=217&amp;hl=ro&amp;start=200&amp;tbnid=oiQ6Hnsi-CUaPM:&amp;tbnh=100&amp;tbnw=150&amp;prev=/images%3Fq%3Dcarpatii%2Borientali%26start%3D180%26gbv%3D2%26ndsp%3D20%26hl%3Dro%26sa%3DN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hyperlink" Target="http://atestatinfo.3x.ro/poze/reale/vladeasa19.JPG" TargetMode="External"/><Relationship Id="rId5" Type="http://schemas.openxmlformats.org/officeDocument/2006/relationships/image" Target="../media/image3.jpeg"/><Relationship Id="rId6" Type="http://schemas.openxmlformats.org/officeDocument/2006/relationships/hyperlink" Target="http://atestatinfo.3x.ro/poze/reale/racatau18.JPG" TargetMode="External"/><Relationship Id="rId7" Type="http://schemas.openxmlformats.org/officeDocument/2006/relationships/image" Target="../media/image4.jpeg"/><Relationship Id="rId8" Type="http://schemas.openxmlformats.org/officeDocument/2006/relationships/hyperlink" Target="http://images.google.ro/imgres?imgurl=http://www.visitmaramures.ro/images/media/landcsapepic/dsc02348.jpg&amp;imgrefurl=http://www.visitmaramures.ro/index.php%3Ftask%3Dcategory%26category%3Dgeography%26lg%3DRO&amp;h=311&amp;w=466&amp;sz=37&amp;hl=ro&amp;start=94&amp;tbnid=dE12SQKnLPAtUM:&amp;tbnh=85&amp;tbnw=128&amp;prev=/images%3Fq%3Dcarpatii%2B%26start%3D80%26gbv%3D2%26ndsp%3D20%26hl%3Dro%26sa%3DN" TargetMode="External"/><Relationship Id="rId9" Type="http://schemas.openxmlformats.org/officeDocument/2006/relationships/image" Target="../media/image5.jpeg"/><Relationship Id="rId10" Type="http://schemas.openxmlformats.org/officeDocument/2006/relationships/hyperlink" Target="file:///tmp/home/.config/libreoffice/4/user/gallery/camera.wav" TargetMode="External"/><Relationship Id="rId11" Type="http://schemas.openxmlformats.org/officeDocument/2006/relationships/image" Target="../media/image6.jpeg"/><Relationship Id="rId1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bp1.blogger.com/_od0KfUND3QQ/RrcTFtzmqKI/AAAAAAAAA34/A8U_KcrSvVI/s1600-h/capra_n_0571_4.jpg" TargetMode="External"/><Relationship Id="rId2" Type="http://schemas.openxmlformats.org/officeDocument/2006/relationships/image" Target="../media/image88.jpeg"/><Relationship Id="rId3" Type="http://schemas.openxmlformats.org/officeDocument/2006/relationships/hyperlink" Target="http://bp0.blogger.com/_od0KfUND3QQ/RrBbmNzmqBI/AAAAAAAAA2o/UdsgkDBwtrs/s1600-h/fagaras_0338.jpg" TargetMode="External"/><Relationship Id="rId4" Type="http://schemas.openxmlformats.org/officeDocument/2006/relationships/image" Target="../media/image89.jpeg"/><Relationship Id="rId5" Type="http://schemas.openxmlformats.org/officeDocument/2006/relationships/hyperlink" Target="http://bp2.blogger.com/_od0KfUND3QQ/RswxH7JxiJI/AAAAAAAAA7o/iNitJ_5sqQo/s1600-h/bucegi_0249.jpg" TargetMode="External"/><Relationship Id="rId6" Type="http://schemas.openxmlformats.org/officeDocument/2006/relationships/image" Target="../media/image90.jpeg"/><Relationship Id="rId7" Type="http://schemas.openxmlformats.org/officeDocument/2006/relationships/image" Target="../media/image91.jpeg"/><Relationship Id="rId8" Type="http://schemas.openxmlformats.org/officeDocument/2006/relationships/hyperlink" Target="http://www.animale.ro/assets/article_image/2007/11/capra_neagra.jpg" TargetMode="External"/><Relationship Id="rId9" Type="http://schemas.openxmlformats.org/officeDocument/2006/relationships/image" Target="../media/image92.jpeg"/><Relationship Id="rId10" Type="http://schemas.openxmlformats.org/officeDocument/2006/relationships/hyperlink" Target="file:///tmp/home/.config/libreoffice/4/user/gallery/camera.wav" TargetMode="External"/><Relationship Id="rId11" Type="http://schemas.openxmlformats.org/officeDocument/2006/relationships/hyperlink" Target="http://images.google.ro/imgres?imgurl=http://www.carpati.org/poze/thumb/odin/2007530173449test.JPG&amp;imgrefurl=http://www.carpati.org/ghid_montan/muntii/bucegi-7/fauna/&amp;h=1056&amp;w=1408&amp;sz=34&amp;hl=ro&amp;start=52&amp;tbnid=KZ7-jLvBClNngM:&amp;tbnh=113&amp;tbnw=150&amp;prev=/images%3Fq%3Dvultur%2Bplesuv%26start%3D40%26gbv%3D2%26ndsp%3D20%26hl%3Dro%26sa%3DN" TargetMode="External"/><Relationship Id="rId12" Type="http://schemas.openxmlformats.org/officeDocument/2006/relationships/image" Target="../media/image93.jpeg"/><Relationship Id="rId1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animale.ro/assets/article_image/2007/04/327.jpg" TargetMode="External"/><Relationship Id="rId2" Type="http://schemas.openxmlformats.org/officeDocument/2006/relationships/image" Target="../media/image94.jpeg"/><Relationship Id="rId3" Type="http://schemas.openxmlformats.org/officeDocument/2006/relationships/hyperlink" Target="http://www.animale.ro/assets/article_image/2007/04/333.jpg" TargetMode="External"/><Relationship Id="rId4" Type="http://schemas.openxmlformats.org/officeDocument/2006/relationships/image" Target="../media/image95.jpeg"/><Relationship Id="rId5" Type="http://schemas.openxmlformats.org/officeDocument/2006/relationships/hyperlink" Target="http://images.google.ro/imgres?imgurl=http://www.descopera.net/doc/ursul.jpg&amp;imgrefurl=http://www.descopera.net/meniu_animale.html&amp;h=194&amp;w=230&amp;sz=62&amp;hl=ro&amp;start=238&amp;um=1&amp;tbnid=ynYSmEPmLwm1AM:&amp;tbnh=91&amp;tbnw=108&amp;prev=/images%3Fq%3Dpaduri%26start%3D220%26ndsp%3D20%26um%3D1%26hl%3Dro%26lr%3Dlang_ro%26sa%3DN" TargetMode="External"/><Relationship Id="rId6" Type="http://schemas.openxmlformats.org/officeDocument/2006/relationships/image" Target="../media/image96.jpeg"/><Relationship Id="rId7" Type="http://schemas.openxmlformats.org/officeDocument/2006/relationships/hyperlink" Target="file:///tmp/home/.config/libreoffice/4/user/gallery/camera.wav" TargetMode="External"/><Relationship Id="rId8" Type="http://schemas.openxmlformats.org/officeDocument/2006/relationships/hyperlink" Target="http://images.google.ro/imgres?imgurl=http://www.professionalteam.ro/imagini/bear-7.jpg&amp;imgrefurl=http://www.professionalteam.ro/ro/activitati/wild-life/program-de-iarna-expert.php&amp;h=600&amp;w=800&amp;sz=108&amp;hl=ro&amp;start=1&amp;tbnid=1_aUNiL1qRnJLM:&amp;tbnh=107&amp;tbnw=143&amp;prev=/images%3Fq%3Danimale%2Bsalbatice%26gbv%3D2%26hl%3Dro%26sa%3DG" TargetMode="External"/><Relationship Id="rId9" Type="http://schemas.openxmlformats.org/officeDocument/2006/relationships/image" Target="../media/image97.jpeg"/><Relationship Id="rId10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infoms.ro/index.php?eID=tx_cms_showpic&amp;file=uploads%2Fpics%2Fmistret_copy.jpg&amp;width=500m&amp;height=500&amp;bodyTag=%3Cbody%20bgColor%3D%22%23ffffff%22%3E&amp;wrap=%3Ca%20href%3D%22javascript%3Aclose%28%29%3B%22%3E%20%7C%20%3C%2Fa%3E&amp;md5=312829b89f8901d98b48babe9861c665" TargetMode="External"/><Relationship Id="rId2" Type="http://schemas.openxmlformats.org/officeDocument/2006/relationships/image" Target="../media/image98.jpeg"/><Relationship Id="rId3" Type="http://schemas.openxmlformats.org/officeDocument/2006/relationships/hyperlink" Target="http://images.google.ro/imgres?imgurl=http://www.gapo.ro/poze/CRM1KS9Q0H8J5ZV.jpg&amp;imgrefurl=http://www.gapo.ro/detaliu_poza/128/5357-CRM1KS9Q0H8J5ZV.htm&amp;h=446&amp;w=720&amp;sz=70&amp;hl=ro&amp;start=8&amp;tbnid=ozPCSjMVin7ZEM:&amp;tbnh=87&amp;tbnw=140&amp;prev=/images%3Fq%3Dmistret%26gbv%3D2%26hl%3Dro%26sa%3DG" TargetMode="External"/><Relationship Id="rId4" Type="http://schemas.openxmlformats.org/officeDocument/2006/relationships/image" Target="../media/image99.jpeg"/><Relationship Id="rId5" Type="http://schemas.openxmlformats.org/officeDocument/2006/relationships/hyperlink" Target="http://images.google.ro/imgres?imgurl=http://www.wels.ro/images/animale2.jpg&amp;imgrefurl=http://www.wels.ro/index.php%3Fq%3Dfaunaflora&amp;h=140&amp;w=160&amp;sz=5&amp;hl=ro&amp;start=31&amp;tbnid=ttMFhHK_4jki0M:&amp;tbnh=86&amp;tbnw=98&amp;prev=/images%3Fq%3Dmistret%26start%3D20%26gbv%3D2%26ndsp%3D20%26hl%3Dro%26sa%3DN" TargetMode="External"/><Relationship Id="rId6" Type="http://schemas.openxmlformats.org/officeDocument/2006/relationships/image" Target="../media/image100.jpeg"/><Relationship Id="rId7" Type="http://schemas.openxmlformats.org/officeDocument/2006/relationships/image" Target="../media/image101.jpeg"/><Relationship Id="rId8" Type="http://schemas.openxmlformats.org/officeDocument/2006/relationships/hyperlink" Target="file:///tmp/home/.config/libreoffice/4/user/gallery/camera.wav" TargetMode="External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animale.ro/assets/article_image/2007/04/319.jpg" TargetMode="External"/><Relationship Id="rId2" Type="http://schemas.openxmlformats.org/officeDocument/2006/relationships/image" Target="../media/image102.jpeg"/><Relationship Id="rId3" Type="http://schemas.openxmlformats.org/officeDocument/2006/relationships/hyperlink" Target="http://images.google.ro/imgres?imgurl=http://www.cjsibiu.ro/pics/caprioara.jpg&amp;imgrefurl=http://www.cjsibiu.ro/ro/rezervatii.htm&amp;h=200&amp;w=200&amp;sz=13&amp;hl=ro&amp;start=1&amp;tbnid=tw_GuTgZ8a25AM:&amp;tbnh=104&amp;tbnw=104&amp;prev=/images%3Fq%3Dflora%2Bsi%2Bfauna%2Bdin%2Bcarpati%26gbv%3D2%26hl%3Dro%26sa%3DG" TargetMode="External"/><Relationship Id="rId4" Type="http://schemas.openxmlformats.org/officeDocument/2006/relationships/image" Target="../media/image103.jpeg"/><Relationship Id="rId5" Type="http://schemas.openxmlformats.org/officeDocument/2006/relationships/hyperlink" Target="file:///tmp/home/.config/libreoffice/4/user/gallery/camera.wav" TargetMode="External"/><Relationship Id="rId6" Type="http://schemas.openxmlformats.org/officeDocument/2006/relationships/hyperlink" Target="http://images.google.ro/imgres?imgurl=http://out4awalk.com/wp-content/uploads/2007/10/dama_dama_lopatar.jpg&amp;imgrefurl=http://out4awalk.com/category/mamifere/&amp;h=387&amp;w=460&amp;sz=48&amp;hl=ro&amp;start=345&amp;tbnid=y_WZbcgkIg65sM:&amp;tbnh=108&amp;tbnw=128&amp;prev=/images%3Fq%3Danimale%2Bsalbatice%26start%3D340%26gbv%3D2%26ndsp%3D20%26hl%3Dro%26sa%3DN" TargetMode="External"/><Relationship Id="rId7" Type="http://schemas.openxmlformats.org/officeDocument/2006/relationships/image" Target="../media/image104.jpeg"/><Relationship Id="rId8" Type="http://schemas.openxmlformats.org/officeDocument/2006/relationships/hyperlink" Target="http://images.google.ro/imgres?imgurl=http://www.rri.ro/images/Cerb_lopatar.jpg&amp;imgrefurl=http://www.rri.ro/art.shtml%3Flang%3D2%26sec%3D252%26art%3D406&amp;h=586&amp;w=760&amp;sz=138&amp;hl=ro&amp;start=44&amp;tbnid=QQU9zKTKewyiDM:&amp;tbnh=109&amp;tbnw=142&amp;prev=/images%3Fq%3Dmistret%26start%3D40%26gbv%3D2%26ndsp%3D20%26hl%3Dro%26sa%3DN" TargetMode="External"/><Relationship Id="rId9" Type="http://schemas.openxmlformats.org/officeDocument/2006/relationships/image" Target="../media/image105.jpeg"/><Relationship Id="rId10" Type="http://schemas.openxmlformats.org/officeDocument/2006/relationships/hyperlink" Target="http://images.google.ro/imgres?imgurl=http://bp3.blogger.com/_54k7Q-ZpAx4/RrHcM791LkI/AAAAAAAAADc/79QQ7Q1s8Es/s320/fallow%2Bpic.jpg&amp;imgrefurl=http://delta-dunarii.blogspot.com/2007_08_01_archive.html&amp;h=320&amp;w=270&amp;sz=34&amp;hl=ro&amp;start=284&amp;tbnid=SuWjHMYtVgt43M:&amp;tbnh=118&amp;tbnw=100&amp;prev=/images%3Fq%3Danimale%2Bsalbatice%26start%3D280%26gbv%3D2%26ndsp%3D20%26hl%3Dro%26sa%3DN" TargetMode="External"/><Relationship Id="rId11" Type="http://schemas.openxmlformats.org/officeDocument/2006/relationships/image" Target="../media/image106.jpeg"/><Relationship Id="rId1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out4awalk.com/wp-content/uploads/2007/07/dihor.jpg" TargetMode="External"/><Relationship Id="rId2" Type="http://schemas.openxmlformats.org/officeDocument/2006/relationships/image" Target="../media/image107.jpeg"/><Relationship Id="rId3" Type="http://schemas.openxmlformats.org/officeDocument/2006/relationships/hyperlink" Target="http://ro.wikipedia.org/wiki/Imagine:Lynx_lynx2.jpg" TargetMode="External"/><Relationship Id="rId4" Type="http://schemas.openxmlformats.org/officeDocument/2006/relationships/image" Target="../media/image108.jpeg"/><Relationship Id="rId5" Type="http://schemas.openxmlformats.org/officeDocument/2006/relationships/hyperlink" Target="http://images.google.ro/imgres?imgurl=http://www.infoziare.ro/poze/thumb/mic/2007-11-05/11942157222312-131199-_pisica.jpg&amp;imgrefurl=http://www.infoziare.ro/46128/animale%2Bsalbatice%2Bdin%2Blumea%2Bnoastra&amp;h=81&amp;w=120&amp;sz=8&amp;hl=ro&amp;start=142&amp;tbnid=qXtvNgCsvj953M:&amp;tbnh=59&amp;tbnw=88&amp;prev=/images%3Fq%3Danimale%2Bsalbatice%26start%3D140%26gbv%3D2%26ndsp%3D20%26hl%3Dro%26sa%3DN" TargetMode="External"/><Relationship Id="rId6" Type="http://schemas.openxmlformats.org/officeDocument/2006/relationships/image" Target="../media/image109.jpeg"/><Relationship Id="rId7" Type="http://schemas.openxmlformats.org/officeDocument/2006/relationships/hyperlink" Target="http://images.google.ro/imgres?imgurl=http://www.neamt.ro/Imagini/Ceahlau/Ceah_082.jpg&amp;imgrefurl=http://www.imagini.neamt.ro/details.php%3Fimage_id%3D361&amp;h=445&amp;w=640&amp;sz=69&amp;hl=ro&amp;start=70&amp;tbnid=3zRPVoO7-qTofM:&amp;tbnh=95&amp;tbnw=137&amp;prev=/images%3Fq%3Djder%26start%3D60%26gbv%3D2%26ndsp%3D20%26hl%3Dro%26sa%3DN" TargetMode="External"/><Relationship Id="rId8" Type="http://schemas.openxmlformats.org/officeDocument/2006/relationships/image" Target="../media/image110.jpeg"/><Relationship Id="rId9" Type="http://schemas.openxmlformats.org/officeDocument/2006/relationships/hyperlink" Target="file:///tmp/home/.config/libreoffice/4/user/gallery/camera.wav" TargetMode="External"/><Relationship Id="rId10" Type="http://schemas.openxmlformats.org/officeDocument/2006/relationships/hyperlink" Target="http://images.google.ro/imgres?imgurl=http://enrin.grida.no/biodiv/biodiv/national/moldova/Img/Vidra.jpg&amp;imgrefurl=http://enrin.grida.no/biodiv/biodiv/national/moldova/biocons.htm&amp;h=311&amp;w=413&amp;sz=13&amp;hl=ro&amp;start=1&amp;tbnid=bM4DAZ0O_ngNuM:&amp;tbnh=94&amp;tbnw=125&amp;prev=/images%3Fq%3Dvidra%26gbv%3D2%26hl%3Dro%26sa%3DG" TargetMode="External"/><Relationship Id="rId11" Type="http://schemas.openxmlformats.org/officeDocument/2006/relationships/image" Target="../media/image111.jpeg"/><Relationship Id="rId12" Type="http://schemas.openxmlformats.org/officeDocument/2006/relationships/hyperlink" Target="http://images.google.ro/imgres?imgurl=http://www.schefferj.ps.hu/images/Zoo/Zoo_Gyor/Vidra1_800.jpg&amp;imgrefurl=http://www.schefferj.ps.hu/Mammals.htm&amp;h=556&amp;w=800&amp;sz=106&amp;hl=ro&amp;start=10&amp;tbnid=YN9GeNqB6TsUHM:&amp;tbnh=99&amp;tbnw=143&amp;prev=/images%3Fq%3Dvidra%26gbv%3D2%26hl%3Dro%26sa%3DG" TargetMode="External"/><Relationship Id="rId13" Type="http://schemas.openxmlformats.org/officeDocument/2006/relationships/image" Target="../media/image112.jpeg"/><Relationship Id="rId1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bp3.blogger.com/_od0KfUND3QQ/RdHBHo7ewlI/AAAAAAAAAUA/M0RJksnFChk/s1600-h/vulpe_06.jpg" TargetMode="External"/><Relationship Id="rId2" Type="http://schemas.openxmlformats.org/officeDocument/2006/relationships/image" Target="../media/image113.jpeg"/><Relationship Id="rId3" Type="http://schemas.openxmlformats.org/officeDocument/2006/relationships/hyperlink" Target="http://bp3.blogger.com/_od0KfUND3QQ/RdHC6o7ewrI/AAAAAAAAAUw/weh8Wtd1AeU/s1600-h/vulpe_14.jpg" TargetMode="External"/><Relationship Id="rId4" Type="http://schemas.openxmlformats.org/officeDocument/2006/relationships/image" Target="../media/image114.jpeg"/><Relationship Id="rId5" Type="http://schemas.openxmlformats.org/officeDocument/2006/relationships/hyperlink" Target="file:///tmp/home/.config/libreoffice/4/user/gallery/camera.wav" TargetMode="External"/><Relationship Id="rId6" Type="http://schemas.openxmlformats.org/officeDocument/2006/relationships/hyperlink" Target="http://images.google.ro/imgres?imgurl=http://www.dej.biz/files/pictures/dej_fauna3.jpg&amp;imgrefurl=http://www.dej.biz/node/2&amp;h=419&amp;w=506&amp;sz=169&amp;hl=ro&amp;start=23&amp;tbnid=WKXFooJiI0k9LM:&amp;tbnh=108&amp;tbnw=131&amp;prev=/images%3Fq%3Dmistret%26start%3D20%26gbv%3D2%26ndsp%3D20%26hl%3Dro%26sa%3DN" TargetMode="External"/><Relationship Id="rId7" Type="http://schemas.openxmlformats.org/officeDocument/2006/relationships/image" Target="../media/image115.jpeg"/><Relationship Id="rId8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images.google.ro/imgres?imgurl=http://forum.softpedia.com/foto/images/fotos/veverita-2291.jpg&amp;imgrefurl=http://forum.softpedia.com/foto/foto/2291-veverita.html&amp;h=460&amp;w=620&amp;sz=286&amp;hl=ro&amp;start=2&amp;tbnid=cMdThVsiHoVn5M:&amp;tbnh=101&amp;tbnw=136&amp;prev=/images%3Fq%3Dveverita%26gbv%3D2%26hl%3Dro%26sa%3DG" TargetMode="External"/><Relationship Id="rId2" Type="http://schemas.openxmlformats.org/officeDocument/2006/relationships/image" Target="../media/image116.jpeg"/><Relationship Id="rId3" Type="http://schemas.openxmlformats.org/officeDocument/2006/relationships/hyperlink" Target="http://images.google.ro/imgres?imgurl=http://www.metropotam.ro/La-zi/2007/03/art2958495361-De-primavara/botanica2.jpg&amp;imgrefurl=http://metropotam.ro/La-zi/2007/03/art2958495361-De-primavara/&amp;h=235&amp;w=297&amp;sz=59&amp;hl=ro&amp;start=58&amp;tbnid=0Xm0PCU9MshzsM:&amp;tbnh=92&amp;tbnw=116&amp;prev=/images%3Fq%3Dveverita%26start%3D40%26gbv%3D2%26ndsp%3D20%26hl%3Dro%26sa%3DN" TargetMode="External"/><Relationship Id="rId4" Type="http://schemas.openxmlformats.org/officeDocument/2006/relationships/image" Target="../media/image117.jpeg"/><Relationship Id="rId5" Type="http://schemas.openxmlformats.org/officeDocument/2006/relationships/hyperlink" Target="http://images.google.ro/imgres?imgurl=http://bp0.blogger.com/_d-EUILqQAtI/RxSrKdX56fI/AAAAAAAABkY/Jz3iirhMHIs/s400/Veverita%2Bin%2BManhattan%2B-%2BNew%2BYork_resize.jpg&amp;imgrefurl=http://vladdodan.blogspot.com/2007/10/american-trip-new-york.html&amp;h=268&amp;w=400&amp;sz=21&amp;hl=ro&amp;start=4&amp;tbnid=tvjWVzSphHvRfM:&amp;tbnh=83&amp;tbnw=124&amp;prev=/images%3Fq%3Dveverita%26gbv%3D2%26hl%3Dro%26sa%3DG" TargetMode="External"/><Relationship Id="rId6" Type="http://schemas.openxmlformats.org/officeDocument/2006/relationships/image" Target="../media/image118.jpeg"/><Relationship Id="rId7" Type="http://schemas.openxmlformats.org/officeDocument/2006/relationships/hyperlink" Target="http://images.google.ro/imgres?imgurl=http://i143.photobucket.com/albums/r152/carmen-minerva/stirileserii.jpg&amp;imgrefurl=http://bocancul-literar.ro/cr/4952&amp;h=550&amp;w=377&amp;sz=24&amp;hl=ro&amp;start=32&amp;tbnid=8znzo1sBnDnGoM:&amp;tbnh=133&amp;tbnw=91&amp;prev=/images%3Fq%3Dveverita%26start%3D20%26gbv%3D2%26ndsp%3D20%26hl%3Dro%26sa%3DN" TargetMode="External"/><Relationship Id="rId8" Type="http://schemas.openxmlformats.org/officeDocument/2006/relationships/image" Target="../media/image119.jpeg"/><Relationship Id="rId9" Type="http://schemas.openxmlformats.org/officeDocument/2006/relationships/hyperlink" Target="http://images.google.ro/imgres?imgurl=http://www.zooland.ro/admin/_files/newsannounce/aric.jpg&amp;imgrefurl=http://www.zooland.ro/tag/paianjeni%2Bveninosi%2B%2Btarantula&amp;h=768&amp;w=1024&amp;sz=194&amp;hl=ro&amp;start=173&amp;tbnid=1fh_medZZnIqSM:&amp;tbnh=113&amp;tbnw=150&amp;prev=/images%3Fq%3Danimale%2Bsalbatice%26start%3D160%26gbv%3D2%26ndsp%3D20%26hl%3Dro%26sa%3DN" TargetMode="External"/><Relationship Id="rId10" Type="http://schemas.openxmlformats.org/officeDocument/2006/relationships/image" Target="../media/image120.jpeg"/><Relationship Id="rId11" Type="http://schemas.openxmlformats.org/officeDocument/2006/relationships/hyperlink" Target="file:///tmp/home/.config/libreoffice/4/user/gallery/camera.wav" TargetMode="External"/><Relationship Id="rId1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images.google.ro/imgres?imgurl=http://www.cabaneledorulet.ro/images/atractii/parcul_retezat_resize.jpg&amp;imgrefurl=http://www.cabaneledorulet.ro/atractii.php&amp;h=113&amp;w=150&amp;sz=17&amp;hl=ro&amp;start=100&amp;tbnid=mvF6zfgi6l_zQM:&amp;tbnh=72&amp;tbnw=96&amp;prev=/images%3Fq%3Dflora%2Bsi%2Bfauna%2Bdin%2Bcarpati%26start%3D80%26gbv%3D2%26ndsp%3D20%26hl%3Dro%26sa%3DN" TargetMode="External"/><Relationship Id="rId2" Type="http://schemas.openxmlformats.org/officeDocument/2006/relationships/image" Target="../media/image121.jpeg"/><Relationship Id="rId3" Type="http://schemas.openxmlformats.org/officeDocument/2006/relationships/hyperlink" Target="http://images.google.ro/imgres?imgurl=http://www.zooland.ro/admin/_files/newsannounce/bufnita_nordica_patata_w_bnp.JPG&amp;imgrefurl=http://www.zooland.ro/1_586_Bufnita_nordica_patata_5157.html&amp;h=1123&amp;w=750&amp;sz=424&amp;hl=ro&amp;start=154&amp;um=1&amp;tbnid=g_l7N0kMj9E_EM:&amp;tbnh=150&amp;tbnw=100&amp;prev=/images%3Fq%3Dpaduri%26start%3D140%26ndsp%3D20%26um%3D1%26hl%3Dro%26lr%3Dlang_ro%26sa%3DN" TargetMode="External"/><Relationship Id="rId4" Type="http://schemas.openxmlformats.org/officeDocument/2006/relationships/image" Target="../media/image122.jpeg"/><Relationship Id="rId5" Type="http://schemas.openxmlformats.org/officeDocument/2006/relationships/hyperlink" Target="http://www.carpati.org/poze_fotografii/--_muntele_nu_este_in_lista_--/un_sturz/22175/" TargetMode="External"/><Relationship Id="rId6" Type="http://schemas.openxmlformats.org/officeDocument/2006/relationships/image" Target="../media/image123.jpeg"/><Relationship Id="rId7" Type="http://schemas.openxmlformats.org/officeDocument/2006/relationships/image" Target="../media/image124.jpeg"/><Relationship Id="rId8" Type="http://schemas.openxmlformats.org/officeDocument/2006/relationships/hyperlink" Target="http://www.carpati.org/poze_fotografii/--_muntele_nu_este_in_lista_--/codobatura/22129/" TargetMode="External"/><Relationship Id="rId9" Type="http://schemas.openxmlformats.org/officeDocument/2006/relationships/image" Target="../media/image125.jpeg"/><Relationship Id="rId10" Type="http://schemas.openxmlformats.org/officeDocument/2006/relationships/hyperlink" Target="http://www.carpati.org/poze_fotografii/--_muntele_nu_este_in_lista_--/un_pic_de_roua/22174/" TargetMode="External"/><Relationship Id="rId11" Type="http://schemas.openxmlformats.org/officeDocument/2006/relationships/image" Target="../media/image126.jpeg"/><Relationship Id="rId12" Type="http://schemas.openxmlformats.org/officeDocument/2006/relationships/hyperlink" Target="http://images.google.ro/imgres?imgurl=http://old.ournet.md/~ecosfera/articole/ec3/im/cocri2.jpg&amp;imgrefurl=http://old.ournet.md/~ecosfera/articole/ec3/delta.html&amp;h=201&amp;w=248&amp;sz=7&amp;hl=ro&amp;start=9&amp;tbnid=ktqlAq_nkF0JYM:&amp;tbnh=90&amp;tbnw=111&amp;prev=/images%3Fq%3Dflora%2Bsi%2Bfauna%2Bdin%2Bcarpati%26gbv%3D2%26hl%3Dro%26sa%3DG" TargetMode="External"/><Relationship Id="rId13" Type="http://schemas.openxmlformats.org/officeDocument/2006/relationships/image" Target="../media/image127.jpeg"/><Relationship Id="rId14" Type="http://schemas.openxmlformats.org/officeDocument/2006/relationships/hyperlink" Target="file:///tmp/home/.config/libreoffice/4/user/gallery/camera.wav" TargetMode="External"/><Relationship Id="rId15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images.google.ro/imgres?imgurl=http://www.dsclex.ro/buton/totemic/mici/vultur.jpg&amp;imgrefurl=http://www.dsclex.ro/astrolog/zodiac/totemic/totemic.htm&amp;h=110&amp;w=110&amp;sz=2&amp;hl=ro&amp;start=7&amp;tbnid=G_z6PMiXfyNXdM:&amp;tbnh=85&amp;tbnw=85&amp;prev=/images%3Fq%3Dvultur%26gbv%3D2%26hl%3Dro%26sa%3DG" TargetMode="External"/><Relationship Id="rId2" Type="http://schemas.openxmlformats.org/officeDocument/2006/relationships/image" Target="../media/image128.jpeg"/><Relationship Id="rId3" Type="http://schemas.openxmlformats.org/officeDocument/2006/relationships/hyperlink" Target="http://images.google.ro/imgres?imgurl=http://www.astrosurf.com/tiotuyin/Aves%2520para%2520publicar/Condor_03533_1_0.jpg&amp;imgrefurl=http://rsanzcarrera4.wordpress.com/2007/12/08/condor-andino-vultur-gryphus/&amp;h=471&amp;w=700&amp;sz=39&amp;hl=ro&amp;start=54&amp;tbnid=jkfhU2IZDfMB_M:&amp;tbnh=94&amp;tbnw=140&amp;prev=/images%3Fq%3Dvultur%26start%3D40%26gbv%3D2%26ndsp%3D20%26hl%3Dro%26sa%3DN" TargetMode="External"/><Relationship Id="rId4" Type="http://schemas.openxmlformats.org/officeDocument/2006/relationships/image" Target="../media/image129.jpeg"/><Relationship Id="rId5" Type="http://schemas.openxmlformats.org/officeDocument/2006/relationships/hyperlink" Target="http://images.google.ro/imgres?imgurl=http://www.posteremag.ro/imagini/thumbs/_81-vultur%2520plesuv.jpg&amp;imgrefurl=http://www.posteremag.ro/cauta.php/keywords/pasare&amp;h=115&amp;w=170&amp;sz=5&amp;hl=ro&amp;start=20&amp;tbnid=GKaSwRWBPeyjCM:&amp;tbnh=67&amp;tbnw=99&amp;prev=/images%3Fq%3Dvultur%26gbv%3D2%26ndsp%3D20%26hl%3Dro%26sa%3DN" TargetMode="External"/><Relationship Id="rId6" Type="http://schemas.openxmlformats.org/officeDocument/2006/relationships/image" Target="../media/image130.jpeg"/><Relationship Id="rId7" Type="http://schemas.openxmlformats.org/officeDocument/2006/relationships/hyperlink" Target="http://images.google.ro/imgres?imgurl=http://www.homorodvalley.ro/date/23261cc66a0e7a2fdb16126911bee5be/Aqupom_thumb.jpg&amp;imgrefurl=http://www.homorodvalley.ro/fotoro.shtml%3Fmlx%3DRO%26set%255B140%255D%3Dmlx-RO%26set%255B141%255D%3Dmlx-RO%26cmd%255B151%255D%3Dc-1-c5dacf7d02e89dce04e2f5dea353b847&amp;h=110&amp;w=142&amp;sz=2&amp;hl=ro&amp;start=40&amp;tbnid=_HkZGhjLjM5wZM:&amp;tbnh=73&amp;tbnw=94&amp;prev=/images%3Fq%3Dacvila%26start%3D20%26gbv%3D2%26ndsp%3D20%26hl%3Dro%26sa%3DN" TargetMode="External"/><Relationship Id="rId8" Type="http://schemas.openxmlformats.org/officeDocument/2006/relationships/image" Target="../media/image131.jpeg"/><Relationship Id="rId9" Type="http://schemas.openxmlformats.org/officeDocument/2006/relationships/hyperlink" Target="http://images.google.ro/imgres?imgurl=http://upload.wikimedia.org/wikipedia/commons/thumb/e/e7/RupellsGriffonVultureImage.jpg/180px-RupellsGriffonVultureImage.jpg&amp;imgrefurl=http://ro.wiktionary.org/wiki/vultur&amp;h=263&amp;w=180&amp;sz=12&amp;hl=ro&amp;start=3&amp;tbnid=RpJ2WR05oNCMIM:&amp;tbnh=112&amp;tbnw=77&amp;prev=/images%3Fq%3Dvultur%2Bplesuv%26gbv%3D2%26hl%3Dro%26sa%3DG" TargetMode="External"/><Relationship Id="rId10" Type="http://schemas.openxmlformats.org/officeDocument/2006/relationships/image" Target="../media/image132.jpeg"/><Relationship Id="rId11" Type="http://schemas.openxmlformats.org/officeDocument/2006/relationships/hyperlink" Target="http://images.google.ro/imgres?imgurl=http://www.porumbei.ro/wp-content/fotografii/soim1.jpg&amp;imgrefurl=http://www.porumbei.ro/2006/11/24/interviu-cu-sergiu-robu-soimar-despre-uliul-porumbar-si-soimul-calator/&amp;h=537&amp;w=450&amp;sz=93&amp;hl=ro&amp;start=3&amp;tbnid=-Rwl9kiIiocf5M:&amp;tbnh=132&amp;tbnw=111&amp;prev=/images%3Fq%3Dsoimul%26gbv%3D2%26hl%3Dro%26sa%3DG" TargetMode="External"/><Relationship Id="rId12" Type="http://schemas.openxmlformats.org/officeDocument/2006/relationships/image" Target="../media/image133.jpeg"/><Relationship Id="rId13" Type="http://schemas.openxmlformats.org/officeDocument/2006/relationships/hyperlink" Target="http://images.google.ro/imgres?imgurl=http://www.lufo.ro/infoeducatie/Pagini/Timis/Muntii%2520Carpati/faunaimg/acvila.jpg&amp;imgrefurl=http://www.lufo.ro/infoeducatie/Pagini/Timis/Muntii%2520Carpati/lynx/pasari.htm&amp;h=221&amp;w=301&amp;sz=6&amp;hl=ro&amp;start=3&amp;tbnid=_g-0d_7LpDYRhM:&amp;tbnh=85&amp;tbnw=116&amp;prev=/images%3Fq%3Dacvila%26gbv%3D2%26hl%3Dro%26sa%3DG" TargetMode="External"/><Relationship Id="rId14" Type="http://schemas.openxmlformats.org/officeDocument/2006/relationships/image" Target="../media/image134.jpeg"/><Relationship Id="rId15" Type="http://schemas.openxmlformats.org/officeDocument/2006/relationships/image" Target="../media/image135.jpeg"/><Relationship Id="rId16" Type="http://schemas.openxmlformats.org/officeDocument/2006/relationships/image" Target="../media/image136.jpeg"/><Relationship Id="rId17" Type="http://schemas.openxmlformats.org/officeDocument/2006/relationships/hyperlink" Target="file:///tmp/home/.config/libreoffice/4/user/gallery/camera.wav" TargetMode="External"/><Relationship Id="rId18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37.jpeg"/><Relationship Id="rId2" Type="http://schemas.openxmlformats.org/officeDocument/2006/relationships/image" Target="../media/image138.jpeg"/><Relationship Id="rId3" Type="http://schemas.openxmlformats.org/officeDocument/2006/relationships/hyperlink" Target="file:///tmp/home/.config/libreoffice/4/user/gallery/camera.wav" TargetMode="External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bp3.blogger.com/_od0KfUND3QQ/RtZnlrJxjqI/AAAAAAAABL0/Jytxp_XQaXc/s1600-h/floare_de_colt_0025.jpg" TargetMode="External"/><Relationship Id="rId2" Type="http://schemas.openxmlformats.org/officeDocument/2006/relationships/image" Target="../media/image7.jpeg"/><Relationship Id="rId3" Type="http://schemas.openxmlformats.org/officeDocument/2006/relationships/hyperlink" Target="http://bp0.blogger.com/_od0KfUND3QQ/RtZnl7JxjsI/AAAAAAAABME/DKSWBZfOdlQ/s1600-h/floare_de_colt_0364.jpg" TargetMode="External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hyperlink" Target="file:///tmp/home/.config/libreoffice/4/user/gallery/camera.wav" TargetMode="External"/><Relationship Id="rId8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9.jpeg"/><Relationship Id="rId2" Type="http://schemas.openxmlformats.org/officeDocument/2006/relationships/image" Target="../media/image140.jpeg"/><Relationship Id="rId3" Type="http://schemas.openxmlformats.org/officeDocument/2006/relationships/hyperlink" Target="http://www.carpati.org/poze_fotografii/--_muntele_nu_este_in_lista_--/ce_geaca_are_/22158/" TargetMode="External"/><Relationship Id="rId4" Type="http://schemas.openxmlformats.org/officeDocument/2006/relationships/image" Target="../media/image141.jpeg"/><Relationship Id="rId5" Type="http://schemas.openxmlformats.org/officeDocument/2006/relationships/hyperlink" Target="file:///tmp/home/.config/libreoffice/4/user/gallery/camera.wav" TargetMode="External"/><Relationship Id="rId6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bp0.blogger.com/_od0KfUND3QQ/Rm5zWs4Gb1I/AAAAAAAAAsM/dmfjt_9Cq7U/s1600-h/rhynocoris_0928.jpg" TargetMode="External"/><Relationship Id="rId2" Type="http://schemas.openxmlformats.org/officeDocument/2006/relationships/image" Target="../media/image142.jpeg"/><Relationship Id="rId3" Type="http://schemas.openxmlformats.org/officeDocument/2006/relationships/hyperlink" Target="http://bp1.blogger.com/_od0KfUND3QQ/Rm5zW84Gb3I/AAAAAAAAAsc/leJwGX1s2DM/s1600-h/rhynocoris_0943_2.JPG" TargetMode="External"/><Relationship Id="rId4" Type="http://schemas.openxmlformats.org/officeDocument/2006/relationships/image" Target="../media/image143.jpeg"/><Relationship Id="rId5" Type="http://schemas.openxmlformats.org/officeDocument/2006/relationships/hyperlink" Target="http://bp1.blogger.com/_od0KfUND3QQ/Rs65yLJxjSI/AAAAAAAABI0/YV6EkPyHoXk/s1600-h/bucegi_0319.jpg" TargetMode="External"/><Relationship Id="rId6" Type="http://schemas.openxmlformats.org/officeDocument/2006/relationships/image" Target="../media/image144.jpeg"/><Relationship Id="rId7" Type="http://schemas.openxmlformats.org/officeDocument/2006/relationships/hyperlink" Target="http://www.animale.ro/assets/article_image/2007/09/calugarita.jpg" TargetMode="External"/><Relationship Id="rId8" Type="http://schemas.openxmlformats.org/officeDocument/2006/relationships/image" Target="../media/image145.jpeg"/><Relationship Id="rId9" Type="http://schemas.openxmlformats.org/officeDocument/2006/relationships/hyperlink" Target="file:///tmp/home/.config/libreoffice/4/user/gallery/camera.wav" TargetMode="External"/><Relationship Id="rId10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://www.carpati.org/poze_fotografii/bucegi/melcisori/22107/" TargetMode="External"/><Relationship Id="rId2" Type="http://schemas.openxmlformats.org/officeDocument/2006/relationships/image" Target="../media/image146.jpeg"/><Relationship Id="rId3" Type="http://schemas.openxmlformats.org/officeDocument/2006/relationships/hyperlink" Target="http://www.carpati.org/poze_fotografii/--_muntele_nu_este_in_lista_--/calul_popii/22164/" TargetMode="External"/><Relationship Id="rId4" Type="http://schemas.openxmlformats.org/officeDocument/2006/relationships/image" Target="../media/image147.jpeg"/><Relationship Id="rId5" Type="http://schemas.openxmlformats.org/officeDocument/2006/relationships/hyperlink" Target="http://www.carpati.org/poze_fotografii/--_muntele_nu_este_in_lista_--/ora_mesei_/22131/" TargetMode="External"/><Relationship Id="rId6" Type="http://schemas.openxmlformats.org/officeDocument/2006/relationships/image" Target="../media/image148.jpeg"/><Relationship Id="rId7" Type="http://schemas.openxmlformats.org/officeDocument/2006/relationships/hyperlink" Target="http://www.carpati.org/poze_fotografii/--_muntele_nu_este_in_lista_--/viespe_la_bizz-ness/22135/" TargetMode="External"/><Relationship Id="rId8" Type="http://schemas.openxmlformats.org/officeDocument/2006/relationships/image" Target="../media/image149.jpeg"/><Relationship Id="rId9" Type="http://schemas.openxmlformats.org/officeDocument/2006/relationships/hyperlink" Target="http://www.carpati.org/poze_fotografii/--_muntele_nu_este_in_lista_--/ma_odihnesc_un_pic.../22154/" TargetMode="External"/><Relationship Id="rId10" Type="http://schemas.openxmlformats.org/officeDocument/2006/relationships/image" Target="../media/image150.jpeg"/><Relationship Id="rId11" Type="http://schemas.openxmlformats.org/officeDocument/2006/relationships/hyperlink" Target="http://bp2.blogger.com/_od0KfUND3QQ/RoOA7YMYbWI/AAAAAAAAAt8/NwP300_OXu4/s1600-h/lampyris_noctiluca_1.jpg" TargetMode="External"/><Relationship Id="rId12" Type="http://schemas.openxmlformats.org/officeDocument/2006/relationships/image" Target="../media/image151.jpeg"/><Relationship Id="rId13" Type="http://schemas.openxmlformats.org/officeDocument/2006/relationships/hyperlink" Target="file:///tmp/home/.config/libreoffice/4/user/gallery/camera.wav" TargetMode="External"/><Relationship Id="rId14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52.jpeg"/><Relationship Id="rId2" Type="http://schemas.openxmlformats.org/officeDocument/2006/relationships/hyperlink" Target="http://images.google.ro/imgres?imgurl=http://www.funromtour.ro/./galerie_foto/poza_galerie_foto___1_350.jpg&amp;imgrefurl=http://www.funromtour.ro/galerie_foto_1_diverse_inedite/inedite.htm&amp;h=450&amp;w=600&amp;sz=64&amp;hl=ro&amp;start=15&amp;tbnid=f_VlNZlSQbTDJM:&amp;tbnh=101&amp;tbnw=135&amp;prev=/images%3Fq%3Doi%26gbv%3D2%26hl%3Dro%26sa%3DG" TargetMode="External"/><Relationship Id="rId3" Type="http://schemas.openxmlformats.org/officeDocument/2006/relationships/image" Target="../media/image153.jpeg"/><Relationship Id="rId4" Type="http://schemas.openxmlformats.org/officeDocument/2006/relationships/hyperlink" Target="http://images.google.ro/imgres?imgurl=http://www.anuntu.ro/images/421655987527.jpg&amp;imgrefurl=http://www.anuntu.ro/anunturi-Diverse-Vand-diverse-vand-oi-Salaj-nranunt59122.htm&amp;h=640&amp;w=800&amp;sz=102&amp;hl=ro&amp;start=54&amp;tbnid=vCiWnji6WSlKJM:&amp;tbnh=114&amp;tbnw=143&amp;prev=/images%3Fq%3Doi%26start%3D40%26gbv%3D2%26ndsp%3D20%26hl%3Dro%26sa%3DN" TargetMode="External"/><Relationship Id="rId5" Type="http://schemas.openxmlformats.org/officeDocument/2006/relationships/image" Target="../media/image154.jpeg"/><Relationship Id="rId6" Type="http://schemas.openxmlformats.org/officeDocument/2006/relationships/hyperlink" Target="http://images.google.ro/imgres?imgurl=http://www.cabana-pietrele.ro/images/oi_in_coborire2.jpg&amp;imgrefurl=http://www.cabana-pietrele.ro/ro/trasee/trasee.htm&amp;h=500&amp;w=375&amp;sz=45&amp;hl=ro&amp;start=13&amp;tbnid=cyhOy9M95psJRM:&amp;tbnh=130&amp;tbnw=98&amp;prev=/images%3Fq%3Doi%26gbv%3D2%26ndsp%3D20%26hl%3Dro%26sa%3DN" TargetMode="External"/><Relationship Id="rId7" Type="http://schemas.openxmlformats.org/officeDocument/2006/relationships/image" Target="../media/image155.jpeg"/><Relationship Id="rId8" Type="http://schemas.openxmlformats.org/officeDocument/2006/relationships/hyperlink" Target="http://images.google.ro/imgres?imgurl=http://www.bretea-romana.ro/imagini/foto_potential/cioban_intre_oi_tn.jpg&amp;imgrefurl=http://www.bretea-romana.ro/turism.htm&amp;h=218&amp;w=290&amp;sz=30&amp;hl=ro&amp;start=19&amp;tbnid=yUHYyXpXgavrdM:&amp;tbnh=86&amp;tbnw=115&amp;prev=/images%3Fq%3Doi%26gbv%3D2%26ndsp%3D20%26hl%3Dro%26sa%3DN" TargetMode="External"/><Relationship Id="rId9" Type="http://schemas.openxmlformats.org/officeDocument/2006/relationships/image" Target="../media/image156.jpeg"/><Relationship Id="rId10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google.ro/imgres?imgurl=http://flowers.mountainguide.ro/big/flori_%2520(11).jpg&amp;imgrefurl=http://flowers.mountainguide.ro/&amp;h=560&amp;w=600&amp;sz=119&amp;hl=ro&amp;start=5&amp;tbnid=ZwI0mOBQrTYf_M:&amp;tbnh=126&amp;tbnw=135&amp;prev=/images%3Fq%3Dflori%2Bde%2Bmunte%26gbv%3D2%26hl%3Dro%26sa%3DG" TargetMode="External"/><Relationship Id="rId2" Type="http://schemas.openxmlformats.org/officeDocument/2006/relationships/image" Target="../media/image11.jpeg"/><Relationship Id="rId3" Type="http://schemas.openxmlformats.org/officeDocument/2006/relationships/hyperlink" Target="http://images.google.ro/imgres?imgurl=http://www.lufo.ro/infoeducatie/Pagini/Timis/Muntii%2520Carpati/floraimg/garofita_de_munte-dianthus_gelidus.jpg&amp;imgrefurl=http://www.lufo.ro/infoeducatie/Pagini/Timis/Muntii%2520Carpati/lynx/flori.htm&amp;h=224&amp;w=272&amp;sz=10&amp;hl=ro&amp;start=11&amp;tbnid=zEjWH4iJgEMTnM:&amp;tbnh=93&amp;tbnw=113&amp;prev=/images%3Fq%3Dflori%2Bde%2Bmunte%26gbv%3D2%26hl%3Dro%26sa%3DG" TargetMode="External"/><Relationship Id="rId4" Type="http://schemas.openxmlformats.org/officeDocument/2006/relationships/image" Target="../media/image12.jpeg"/><Relationship Id="rId5" Type="http://schemas.openxmlformats.org/officeDocument/2006/relationships/hyperlink" Target="http://images.google.ro/imgres?imgurl=http://www.floripentruea.ro/img/flowers/thumbs/normal/627_45acd2c18480f.jpg&amp;imgrefurl=http://www.floripentruea.ro/produs/627/azaleea_on_stam.html&amp;h=399&amp;w=354&amp;sz=55&amp;hl=ro&amp;start=7&amp;tbnid=msRSbm4SzVlq4M:&amp;tbnh=124&amp;tbnw=110&amp;prev=/images%3Fq%3Dflori%2Bde%2Bmunte%26gbv%3D2%26hl%3Dro%26sa%3DG" TargetMode="External"/><Relationship Id="rId6" Type="http://schemas.openxmlformats.org/officeDocument/2006/relationships/image" Target="../media/image13.jpeg"/><Relationship Id="rId7" Type="http://schemas.openxmlformats.org/officeDocument/2006/relationships/image" Target="../media/image14.jpeg"/><Relationship Id="rId8" Type="http://schemas.openxmlformats.org/officeDocument/2006/relationships/hyperlink" Target="http://www.penexport.ro/ro/shop/imgprod/soc1a.jpg" TargetMode="External"/><Relationship Id="rId9" Type="http://schemas.openxmlformats.org/officeDocument/2006/relationships/image" Target="../media/image15.jpeg"/><Relationship Id="rId10" Type="http://schemas.openxmlformats.org/officeDocument/2006/relationships/hyperlink" Target="http://images.google.ro/imgres?imgurl=http://www.klevertravel.ro/img_lifestyle/mare_512_0708151900.jpg&amp;imgrefurl=http://www.klevertravel.ro/lifestyle/Cu_rucsacul_in_spate_prin_Carpati_(1).html&amp;h=323&amp;w=262&amp;sz=24&amp;hl=ro&amp;start=160&amp;tbnid=Nx3aQ1CGzv5yJM:&amp;tbnh=118&amp;tbnw=96&amp;prev=/images%3Fq%3Dcarpatii%2Borientali%26start%3D140%26gbv%3D2%26ndsp%3D20%26hl%3Dro%26sa%3DN" TargetMode="External"/><Relationship Id="rId11" Type="http://schemas.openxmlformats.org/officeDocument/2006/relationships/image" Target="../media/image16.jpeg"/><Relationship Id="rId12" Type="http://schemas.openxmlformats.org/officeDocument/2006/relationships/hyperlink" Target="http://images.google.ro/imgres?imgurl=http://www.visitmaramures.ro/images/media/landcsapepic/violetspring.jpg&amp;imgrefurl=http://www.visitmaramures.ro/index.php%3Ftask%3Dcategory%26category%3Dgeography%26lg%3DRO&amp;h=346&amp;w=519&amp;sz=58&amp;hl=ro&amp;start=208&amp;tbnid=T2D_RQUBbS7ZCM:&amp;tbnh=87&amp;tbnw=131&amp;prev=/images%3Fq%3Dcarpatii%2Borientali%26start%3D200%26gbv%3D2%26ndsp%3D20%26hl%3Dro%26sa%3DN" TargetMode="External"/><Relationship Id="rId13" Type="http://schemas.openxmlformats.org/officeDocument/2006/relationships/image" Target="../media/image17.jpeg"/><Relationship Id="rId14" Type="http://schemas.openxmlformats.org/officeDocument/2006/relationships/hyperlink" Target="file:///tmp/home/.config/libreoffice/4/user/gallery/camera.wav" TargetMode="External"/><Relationship Id="rId1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bp3.blogger.com/_od0KfUND3QQ/RrLkQdzmqCI/AAAAAAAAA20/4Q5Dh-MvDBI/s1600-h/fagaras_fl_0649.jpg" TargetMode="External"/><Relationship Id="rId2" Type="http://schemas.openxmlformats.org/officeDocument/2006/relationships/image" Target="../media/image18.jpeg"/><Relationship Id="rId3" Type="http://schemas.openxmlformats.org/officeDocument/2006/relationships/hyperlink" Target="http://bp1.blogger.com/_od0KfUND3QQ/RrLkm9zmqII/AAAAAAAAA3k/cZPoYMF32yc/s1600-h/fagaras_fl_0600.jpg" TargetMode="External"/><Relationship Id="rId4" Type="http://schemas.openxmlformats.org/officeDocument/2006/relationships/image" Target="../media/image19.jpeg"/><Relationship Id="rId5" Type="http://schemas.openxmlformats.org/officeDocument/2006/relationships/hyperlink" Target="http://bp1.blogger.com/_od0KfUND3QQ/RrLkQ9zmqDI/AAAAAAAAA28/LweQj4uosmE/s1600-h/fagaras_fl_0651.jpg" TargetMode="External"/><Relationship Id="rId6" Type="http://schemas.openxmlformats.org/officeDocument/2006/relationships/image" Target="../media/image20.jpeg"/><Relationship Id="rId7" Type="http://schemas.openxmlformats.org/officeDocument/2006/relationships/hyperlink" Target="http://bp3.blogger.com/_od0KfUND3QQ/RrLkRdzmqEI/AAAAAAAAA3E/Duti2-azyto/s1600-h/fagaras_fl_0658.jpg" TargetMode="External"/><Relationship Id="rId8" Type="http://schemas.openxmlformats.org/officeDocument/2006/relationships/image" Target="../media/image21.jpeg"/><Relationship Id="rId9" Type="http://schemas.openxmlformats.org/officeDocument/2006/relationships/hyperlink" Target="http://bp1.blogger.com/_od0KfUND3QQ/RrLkS9zmqGI/AAAAAAAAA3U/VlLT684i8bY/s1600-h/fagaras_fl_0672.jpg" TargetMode="External"/><Relationship Id="rId10" Type="http://schemas.openxmlformats.org/officeDocument/2006/relationships/image" Target="../media/image22.jpeg"/><Relationship Id="rId11" Type="http://schemas.openxmlformats.org/officeDocument/2006/relationships/hyperlink" Target="http://bp3.blogger.com/_od0KfUND3QQ/Rm5zWc4Gb0I/AAAAAAAAAsE/WLvmEEPqe2k/s1600-h/c_tureni_0905.jpg" TargetMode="External"/><Relationship Id="rId12" Type="http://schemas.openxmlformats.org/officeDocument/2006/relationships/image" Target="../media/image23.jpeg"/><Relationship Id="rId13" Type="http://schemas.openxmlformats.org/officeDocument/2006/relationships/hyperlink" Target="file:///tmp/home/.config/libreoffice/4/user/gallery/camera.wav" TargetMode="External"/><Relationship Id="rId1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bp1.blogger.com/_od0KfUND3QQ/Rnt8_s4Gb9I/AAAAAAAAAtk/WoVo5sFtM2I/s1600-h/c_tureni_70987.jpg" TargetMode="External"/><Relationship Id="rId2" Type="http://schemas.openxmlformats.org/officeDocument/2006/relationships/image" Target="../media/image24.jpeg"/><Relationship Id="rId3" Type="http://schemas.openxmlformats.org/officeDocument/2006/relationships/hyperlink" Target="http://bp1.blogger.com/_od0KfUND3QQ/Rnt8_s4Gb-I/AAAAAAAAAts/7Pu_mjeWN0I/s1600-h/c_tureni_71007.jpg" TargetMode="External"/><Relationship Id="rId4" Type="http://schemas.openxmlformats.org/officeDocument/2006/relationships/image" Target="../media/image25.jpeg"/><Relationship Id="rId5" Type="http://schemas.openxmlformats.org/officeDocument/2006/relationships/hyperlink" Target="http://bp2.blogger.com/_od0KfUND3QQ/Rm0_3c4GbsI/AAAAAAAAAqs/vyBvrXUxnXw/s1600-h/c_turzii_90874.jpg" TargetMode="External"/><Relationship Id="rId6" Type="http://schemas.openxmlformats.org/officeDocument/2006/relationships/image" Target="../media/image26.jpeg"/><Relationship Id="rId7" Type="http://schemas.openxmlformats.org/officeDocument/2006/relationships/hyperlink" Target="http://bp2.blogger.com/_od0KfUND3QQ/RkwHLbr7XFI/AAAAAAAAAlk/Thp-5TdB9os/s1600-h/tureni_0962.jpg" TargetMode="External"/><Relationship Id="rId8" Type="http://schemas.openxmlformats.org/officeDocument/2006/relationships/image" Target="../media/image27.jpeg"/><Relationship Id="rId9" Type="http://schemas.openxmlformats.org/officeDocument/2006/relationships/image" Target="../media/image28.jpeg"/><Relationship Id="rId10" Type="http://schemas.openxmlformats.org/officeDocument/2006/relationships/hyperlink" Target="http://www.carpati.org/poze_fotografii/--_muntele_nu_este_in_lista_--/nu_ma_uita/22108/" TargetMode="External"/><Relationship Id="rId11" Type="http://schemas.openxmlformats.org/officeDocument/2006/relationships/image" Target="../media/image29.jpeg"/><Relationship Id="rId12" Type="http://schemas.openxmlformats.org/officeDocument/2006/relationships/hyperlink" Target="file:///tmp/home/.config/libreoffice/4/user/gallery/camera.wav" TargetMode="External"/><Relationship Id="rId1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google.ro/imgres?imgurl=http://www.brasov.ro/nou/images/garofita.jpg&amp;imgrefurl=http://www.brasov.ro/nou/rezervatii.php&amp;h=400&amp;w=533&amp;sz=62&amp;hl=ro&amp;start=4&amp;tbnid=m3nnykcIzrT0DM:&amp;tbnh=99&amp;tbnw=132&amp;prev=/images%3Fq%3Dflora%2Bsi%2Bfauna%2Bdin%2Bcarpati%26gbv%3D2%26hl%3Dro%26sa%3DG" TargetMode="External"/><Relationship Id="rId2" Type="http://schemas.openxmlformats.org/officeDocument/2006/relationships/image" Target="../media/image30.jpeg"/><Relationship Id="rId3" Type="http://schemas.openxmlformats.org/officeDocument/2006/relationships/hyperlink" Target="http://images.google.ro/imgres?imgurl=http://www.domogled-cerna.ro/images/Satyrium%2520w-album%2520(Knoch,%25201782).jpg&amp;imgrefurl=http://www.domogled-cerna.ro/Fauna.html&amp;h=1974&amp;w=2878&amp;sz=764&amp;hl=ro&amp;start=6&amp;tbnid=4UkUvoa9rejfoM:&amp;tbnh=103&amp;tbnw=150&amp;prev=/images%3Fq%3Dflora%2Bsi%2Bfauna%2Bdin%2Bcarpati%26gbv%3D2%26hl%3Dro%26sa%3DG" TargetMode="External"/><Relationship Id="rId4" Type="http://schemas.openxmlformats.org/officeDocument/2006/relationships/image" Target="../media/image31.jpeg"/><Relationship Id="rId5" Type="http://schemas.openxmlformats.org/officeDocument/2006/relationships/hyperlink" Target="http://www.carpati.org/poze_fotografii/--_muntele_nu_este_in_lista_--/lucerna/22137/" TargetMode="External"/><Relationship Id="rId6" Type="http://schemas.openxmlformats.org/officeDocument/2006/relationships/image" Target="../media/image32.jpeg"/><Relationship Id="rId7" Type="http://schemas.openxmlformats.org/officeDocument/2006/relationships/hyperlink" Target="http://www.carpati.org/poze_fotografii/--_muntele_nu_este_in_lista_--/ce_mica_sunt.../22136/" TargetMode="External"/><Relationship Id="rId8" Type="http://schemas.openxmlformats.org/officeDocument/2006/relationships/image" Target="../media/image33.jpeg"/><Relationship Id="rId9" Type="http://schemas.openxmlformats.org/officeDocument/2006/relationships/hyperlink" Target="http://www.carpati.org/poze_fotografii/--_muntele_nu_este_in_lista_--/clopotel/22168/" TargetMode="External"/><Relationship Id="rId10" Type="http://schemas.openxmlformats.org/officeDocument/2006/relationships/image" Target="../media/image34.jpeg"/><Relationship Id="rId11" Type="http://schemas.openxmlformats.org/officeDocument/2006/relationships/hyperlink" Target="http://www.carpati.org/poze_fotografii/--_muntele_nu_este_in_lista_--/sunatoare/22163/" TargetMode="External"/><Relationship Id="rId12" Type="http://schemas.openxmlformats.org/officeDocument/2006/relationships/image" Target="../media/image35.jpeg"/><Relationship Id="rId13" Type="http://schemas.openxmlformats.org/officeDocument/2006/relationships/hyperlink" Target="http://www.carpati.org/poze_fotografii/--_muntele_nu_este_in_lista_--/garofita/22110/" TargetMode="External"/><Relationship Id="rId14" Type="http://schemas.openxmlformats.org/officeDocument/2006/relationships/image" Target="../media/image36.jpeg"/><Relationship Id="rId15" Type="http://schemas.openxmlformats.org/officeDocument/2006/relationships/hyperlink" Target="http://www.carpati.org/poze_fotografii/--_muntele_nu_este_in_lista_--/stiti_cum_se_numesc_/22126/" TargetMode="External"/><Relationship Id="rId16" Type="http://schemas.openxmlformats.org/officeDocument/2006/relationships/image" Target="../media/image37.jpeg"/><Relationship Id="rId17" Type="http://schemas.openxmlformats.org/officeDocument/2006/relationships/hyperlink" Target="http://www.carpati.org/poze_fotografii/--_muntele_nu_este_in_lista_--/fisss_-tic/22130/" TargetMode="External"/><Relationship Id="rId18" Type="http://schemas.openxmlformats.org/officeDocument/2006/relationships/image" Target="../media/image38.jpeg"/><Relationship Id="rId19" Type="http://schemas.openxmlformats.org/officeDocument/2006/relationships/hyperlink" Target="http://www.carpati.org/poze_fotografii/--_muntele_nu_este_in_lista_--/ciufulici/22145/" TargetMode="External"/><Relationship Id="rId20" Type="http://schemas.openxmlformats.org/officeDocument/2006/relationships/image" Target="../media/image39.jpeg"/><Relationship Id="rId21" Type="http://schemas.openxmlformats.org/officeDocument/2006/relationships/hyperlink" Target="http://www.carpati.org/poze_fotografii/--_muntele_nu_este_in_lista_--/buchetel/22170/" TargetMode="External"/><Relationship Id="rId22" Type="http://schemas.openxmlformats.org/officeDocument/2006/relationships/image" Target="../media/image40.jpeg"/><Relationship Id="rId23" Type="http://schemas.openxmlformats.org/officeDocument/2006/relationships/hyperlink" Target="http://www.carpati.org/poze_fotografii/--_muntele_nu_este_in_lista_--/anghinare/22155/" TargetMode="External"/><Relationship Id="rId24" Type="http://schemas.openxmlformats.org/officeDocument/2006/relationships/image" Target="../media/image41.jpeg"/><Relationship Id="rId25" Type="http://schemas.openxmlformats.org/officeDocument/2006/relationships/hyperlink" Target="http://www.carpati.org/poze_fotografii/--_muntele_nu_este_in_lista_--/fantezie/22118/" TargetMode="External"/><Relationship Id="rId26" Type="http://schemas.openxmlformats.org/officeDocument/2006/relationships/image" Target="../media/image42.jpeg"/><Relationship Id="rId27" Type="http://schemas.openxmlformats.org/officeDocument/2006/relationships/hyperlink" Target="file:///tmp/home/.config/libreoffice/4/user/gallery/camera.wav" TargetMode="External"/><Relationship Id="rId28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carpati.org/poze_fotografii/--_muntele_nu_este_in_lista_--/ma_iubeste_nu_ma_iubeste_ma_iubeste_/22157/" TargetMode="External"/><Relationship Id="rId2" Type="http://schemas.openxmlformats.org/officeDocument/2006/relationships/image" Target="../media/image43.jpeg"/><Relationship Id="rId3" Type="http://schemas.openxmlformats.org/officeDocument/2006/relationships/hyperlink" Target="http://www.carpati.org/poze_fotografii/--_muntele_nu_este_in_lista_--/si_din_patru_cati_au_fost_au_ramas_doar_trei/22153/" TargetMode="External"/><Relationship Id="rId4" Type="http://schemas.openxmlformats.org/officeDocument/2006/relationships/image" Target="../media/image44.jpeg"/><Relationship Id="rId5" Type="http://schemas.openxmlformats.org/officeDocument/2006/relationships/hyperlink" Target="http://www.carpati.org/poze_fotografii/--_muntele_nu_este_in_lista_--/o_steluta_ce-a_cazut_in_iarba/22139/" TargetMode="External"/><Relationship Id="rId6" Type="http://schemas.openxmlformats.org/officeDocument/2006/relationships/image" Target="../media/image45.jpeg"/><Relationship Id="rId7" Type="http://schemas.openxmlformats.org/officeDocument/2006/relationships/hyperlink" Target="http://www.carpati.org/poze_fotografii/--_muntele_nu_este_in_lista_--/floare_de_fraguta/22147/" TargetMode="External"/><Relationship Id="rId8" Type="http://schemas.openxmlformats.org/officeDocument/2006/relationships/image" Target="../media/image46.jpeg"/><Relationship Id="rId9" Type="http://schemas.openxmlformats.org/officeDocument/2006/relationships/hyperlink" Target="http://www.carpati.org/poze_fotografii/--_muntele_nu_este_in_lista_--/cicoare/22156/" TargetMode="External"/><Relationship Id="rId10" Type="http://schemas.openxmlformats.org/officeDocument/2006/relationships/image" Target="../media/image47.jpeg"/><Relationship Id="rId11" Type="http://schemas.openxmlformats.org/officeDocument/2006/relationships/hyperlink" Target="http://www.carpati.org/poze_fotografii/--_muntele_nu_este_in_lista_--/doi_ochi_dar_nu_albastrii_/22169/" TargetMode="External"/><Relationship Id="rId12" Type="http://schemas.openxmlformats.org/officeDocument/2006/relationships/image" Target="../media/image48.jpeg"/><Relationship Id="rId13" Type="http://schemas.openxmlformats.org/officeDocument/2006/relationships/hyperlink" Target="http://www.carpati.org/poze_fotografii/baiului/stanjenel/22114/" TargetMode="External"/><Relationship Id="rId14" Type="http://schemas.openxmlformats.org/officeDocument/2006/relationships/image" Target="../media/image49.jpeg"/><Relationship Id="rId15" Type="http://schemas.openxmlformats.org/officeDocument/2006/relationships/hyperlink" Target="http://ro.wikipedia.org/wiki/Imagine:Flora_Piatra_Craiului.jpg" TargetMode="External"/><Relationship Id="rId16" Type="http://schemas.openxmlformats.org/officeDocument/2006/relationships/image" Target="../media/image50.jpeg"/><Relationship Id="rId17" Type="http://schemas.openxmlformats.org/officeDocument/2006/relationships/image" Target="../media/image51.jpeg"/><Relationship Id="rId18" Type="http://schemas.openxmlformats.org/officeDocument/2006/relationships/hyperlink" Target="http://www.infomontan.ro/Galerie/files/56.html" TargetMode="External"/><Relationship Id="rId19" Type="http://schemas.openxmlformats.org/officeDocument/2006/relationships/image" Target="../media/image52.jpeg"/><Relationship Id="rId20" Type="http://schemas.openxmlformats.org/officeDocument/2006/relationships/hyperlink" Target="http://www.infomontan.ro/Galerie/files/58.html" TargetMode="External"/><Relationship Id="rId21" Type="http://schemas.openxmlformats.org/officeDocument/2006/relationships/image" Target="../media/image53.jpeg"/><Relationship Id="rId22" Type="http://schemas.openxmlformats.org/officeDocument/2006/relationships/hyperlink" Target="http://www.infomontan.ro/Galerie/files/57.html" TargetMode="External"/><Relationship Id="rId23" Type="http://schemas.openxmlformats.org/officeDocument/2006/relationships/image" Target="../media/image54.jpeg"/><Relationship Id="rId24" Type="http://schemas.openxmlformats.org/officeDocument/2006/relationships/hyperlink" Target="http://images.google.ro/imgres?imgurl=http://bucegi.trei.ro/Floareadecolt.jpg&amp;imgrefurl=http://bucegi.trei.ro/Zone.html&amp;h=585&amp;w=399&amp;sz=37&amp;hl=ro&amp;start=380&amp;tbnid=yyPnhxqKhzmwFM:&amp;tbnh=135&amp;tbnw=92&amp;prev=/images%3Fq%3Dflora%2Bsi%2Bfauna%2Bdin%2Bcarpati%26start%3D360%26gbv%3D2%26ndsp%3D20%26hl%3Dro%26sa%3DN" TargetMode="External"/><Relationship Id="rId25" Type="http://schemas.openxmlformats.org/officeDocument/2006/relationships/image" Target="../media/image55.jpeg"/><Relationship Id="rId26" Type="http://schemas.openxmlformats.org/officeDocument/2006/relationships/hyperlink" Target="file:///tmp/home/.config/libreoffice/4/user/gallery/camera.wav" TargetMode="External"/><Relationship Id="rId2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image" Target="../media/image57.jpeg"/><Relationship Id="rId3" Type="http://schemas.openxmlformats.org/officeDocument/2006/relationships/hyperlink" Target="http://images.google.ro/imgres?imgurl=http://www.apmph.ro/1-CASTAN-P0009833.jpg&amp;imgrefurl=http://www.apmph.ro/06_01_06_10_mai_2006.htm&amp;h=1536&amp;w=1024&amp;sz=664&amp;hl=ro&amp;start=9&amp;um=1&amp;tbnid=iycnP5CUive3eM:&amp;tbnh=150&amp;tbnw=100&amp;prev=/images%3Fq%3Dpaduri%26um%3D1%26hl%3Dro%26lr%3Dlang_ro%26sa%3DG" TargetMode="External"/><Relationship Id="rId4" Type="http://schemas.openxmlformats.org/officeDocument/2006/relationships/image" Target="../media/image58.jpeg"/><Relationship Id="rId5" Type="http://schemas.openxmlformats.org/officeDocument/2006/relationships/image" Target="../media/image59.jpeg"/><Relationship Id="rId6" Type="http://schemas.openxmlformats.org/officeDocument/2006/relationships/hyperlink" Target="file:///tmp/home/.config/libreoffice/4/user/gallery/camera.wav" TargetMode="External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arpa</a:t>
            </a:r>
            <a:r>
              <a:rPr b="0" lang="ro-RO" sz="5700" spc="-1" strike="noStrike">
                <a:solidFill>
                  <a:srgbClr val="ffffcc"/>
                </a:solidFill>
                <a:latin typeface="Arial"/>
              </a:rPr>
              <a:t>ţ</a:t>
            </a: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ii  Rom</a:t>
            </a:r>
            <a:r>
              <a:rPr b="0" lang="ro-RO" sz="5700" spc="-1" strike="noStrike">
                <a:solidFill>
                  <a:srgbClr val="ffffcc"/>
                </a:solidFill>
                <a:latin typeface="Arial"/>
              </a:rPr>
              <a:t>â</a:t>
            </a: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niei</a:t>
            </a:r>
            <a:br>
              <a:rPr sz="5700"/>
            </a:b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Flora </a:t>
            </a:r>
            <a:r>
              <a:rPr b="0" lang="ro-RO" sz="5700" spc="-1" strike="noStrike">
                <a:solidFill>
                  <a:srgbClr val="ffffcc"/>
                </a:solidFill>
                <a:latin typeface="Arial"/>
              </a:rPr>
              <a:t>ş</a:t>
            </a: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i fauna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6" name="">
            <a:hlinkClick r:id="" action="ppaction://hlinkshowjump?jump=nextslide"/>
            <a:hlinkClick r:id="rId1"/>
          </p:cNvPr>
          <p:cNvSpPr/>
          <p:nvPr/>
        </p:nvSpPr>
        <p:spPr>
          <a:xfrm>
            <a:off x="4419720" y="563868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3794"/>
                </a:moveTo>
                <a:lnTo>
                  <a:pt x="23202" y="10800"/>
                </a:lnTo>
                <a:lnTo>
                  <a:pt x="9189" y="17806"/>
                </a:lnTo>
                <a:close/>
              </a:path>
            </a:pathLst>
          </a:cu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" descr="brad_4324.jpg"/>
          <p:cNvPicPr/>
          <p:nvPr/>
        </p:nvPicPr>
        <p:blipFill>
          <a:blip r:embed="rId1"/>
          <a:stretch/>
        </p:blipFill>
        <p:spPr>
          <a:xfrm>
            <a:off x="762120" y="609480"/>
            <a:ext cx="7619760" cy="5722920"/>
          </a:xfrm>
          <a:prstGeom prst="rect">
            <a:avLst/>
          </a:prstGeom>
          <a:ln w="0">
            <a:noFill/>
          </a:ln>
        </p:spPr>
      </p:pic>
      <p:sp>
        <p:nvSpPr>
          <p:cNvPr id="191" name="">
            <a:hlinkClick r:id="" action="ppaction://hlinkshowjump?jump=nextslide"/>
            <a:hlinkClick r:id="rId2"/>
          </p:cNvPr>
          <p:cNvSpPr/>
          <p:nvPr/>
        </p:nvSpPr>
        <p:spPr>
          <a:xfrm>
            <a:off x="4419720" y="61722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3794"/>
                </a:moveTo>
                <a:lnTo>
                  <a:pt x="23202" y="10800"/>
                </a:lnTo>
                <a:lnTo>
                  <a:pt x="9189" y="17806"/>
                </a:lnTo>
                <a:close/>
              </a:path>
            </a:pathLst>
          </a:cu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F</a:t>
            </a:r>
            <a:r>
              <a:rPr b="0" lang="ro-RO" sz="4000" spc="-1" strike="noStrike">
                <a:solidFill>
                  <a:srgbClr val="ffffcc"/>
                </a:solidFill>
                <a:latin typeface="Arial"/>
              </a:rPr>
              <a:t>ructe de pădure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9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3520" y="3886200"/>
            <a:ext cx="2438280" cy="243828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276720" y="1523880"/>
            <a:ext cx="2743200" cy="27432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172200" y="4114800"/>
            <a:ext cx="2362320" cy="23623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477120" y="99072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Fraguta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304920" y="990720"/>
            <a:ext cx="2514600" cy="2430360"/>
          </a:xfrm>
          <a:prstGeom prst="rect">
            <a:avLst/>
          </a:prstGeom>
          <a:ln w="0">
            <a:noFill/>
          </a:ln>
        </p:spPr>
      </p:pic>
      <p:sp>
        <p:nvSpPr>
          <p:cNvPr id="198" name="">
            <a:hlinkClick r:id="" action="ppaction://hlinkshowjump?jump=nextslide"/>
            <a:hlinkClick r:id="rId11"/>
          </p:cNvPr>
          <p:cNvSpPr/>
          <p:nvPr/>
        </p:nvSpPr>
        <p:spPr>
          <a:xfrm>
            <a:off x="4343400" y="563868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3794"/>
                </a:moveTo>
                <a:lnTo>
                  <a:pt x="23202" y="10800"/>
                </a:lnTo>
                <a:lnTo>
                  <a:pt x="9189" y="17806"/>
                </a:lnTo>
                <a:close/>
              </a:path>
            </a:pathLst>
          </a:cu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Afin"/>
          <p:cNvPicPr/>
          <p:nvPr/>
        </p:nvPicPr>
        <p:blipFill>
          <a:blip r:embed="rId1"/>
          <a:stretch/>
        </p:blipFill>
        <p:spPr>
          <a:xfrm>
            <a:off x="228600" y="304920"/>
            <a:ext cx="2743200" cy="206028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400800" y="380880"/>
            <a:ext cx="2209680" cy="221004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Afin"/>
          <p:cNvPicPr/>
          <p:nvPr/>
        </p:nvPicPr>
        <p:blipFill>
          <a:blip r:embed="rId4"/>
          <a:stretch/>
        </p:blipFill>
        <p:spPr>
          <a:xfrm>
            <a:off x="6400800" y="4495680"/>
            <a:ext cx="2743200" cy="194148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590920" y="205740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Muraris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1523880" y="4952880"/>
            <a:ext cx="2286000" cy="1708200"/>
          </a:xfrm>
          <a:prstGeom prst="rect">
            <a:avLst/>
          </a:prstGeom>
          <a:ln w="0">
            <a:noFill/>
          </a:ln>
        </p:spPr>
      </p:pic>
      <p:sp>
        <p:nvSpPr>
          <p:cNvPr id="204" name="">
            <a:hlinkClick r:id="" action="ppaction://hlinkshowjump?jump=nextslide"/>
            <a:hlinkClick r:id="rId9"/>
          </p:cNvPr>
          <p:cNvSpPr/>
          <p:nvPr/>
        </p:nvSpPr>
        <p:spPr>
          <a:xfrm>
            <a:off x="4114800" y="563868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3794"/>
                </a:moveTo>
                <a:lnTo>
                  <a:pt x="23202" y="10800"/>
                </a:lnTo>
                <a:lnTo>
                  <a:pt x="9189" y="17806"/>
                </a:lnTo>
                <a:close/>
              </a:path>
            </a:pathLst>
          </a:cu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05" name="" descr="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228600" y="3124080"/>
            <a:ext cx="2057400" cy="20574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ffffcc"/>
                </a:solidFill>
                <a:latin typeface="Arial"/>
              </a:rPr>
              <a:t>Buturugi cu muşchi şi ciuperci 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07" name="" descr="buturugi.jpg"/>
          <p:cNvPicPr/>
          <p:nvPr/>
        </p:nvPicPr>
        <p:blipFill>
          <a:blip r:embed="rId1"/>
          <a:stretch/>
        </p:blipFill>
        <p:spPr>
          <a:xfrm>
            <a:off x="304920" y="1371600"/>
            <a:ext cx="3933720" cy="469584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Buturuga color.jpg"/>
          <p:cNvPicPr/>
          <p:nvPr/>
        </p:nvPicPr>
        <p:blipFill>
          <a:blip r:embed="rId2"/>
          <a:stretch/>
        </p:blipFill>
        <p:spPr>
          <a:xfrm>
            <a:off x="4419720" y="1905120"/>
            <a:ext cx="4495680" cy="3684600"/>
          </a:xfrm>
          <a:prstGeom prst="rect">
            <a:avLst/>
          </a:prstGeom>
          <a:ln w="0">
            <a:noFill/>
          </a:ln>
        </p:spPr>
      </p:pic>
      <p:sp>
        <p:nvSpPr>
          <p:cNvPr id="209" name="">
            <a:hlinkClick r:id="" action="ppaction://hlinkshowjump?jump=nextslide"/>
            <a:hlinkClick r:id="rId3"/>
          </p:cNvPr>
          <p:cNvSpPr/>
          <p:nvPr/>
        </p:nvSpPr>
        <p:spPr>
          <a:xfrm>
            <a:off x="4343400" y="579132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3794"/>
                </a:moveTo>
                <a:lnTo>
                  <a:pt x="23202" y="10800"/>
                </a:lnTo>
                <a:lnTo>
                  <a:pt x="9189" y="17806"/>
                </a:lnTo>
                <a:close/>
              </a:path>
            </a:pathLst>
          </a:cu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ffffcc"/>
                </a:solidFill>
                <a:latin typeface="Arial"/>
              </a:rPr>
              <a:t>Ciuperci 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1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819520" y="2363760"/>
            <a:ext cx="3047760" cy="228744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867280" y="4343400"/>
            <a:ext cx="2971800" cy="222876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Ce sa fie, ce sa fie?&#13;&#10;Ou sau ciuperca?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80880" y="4495680"/>
            <a:ext cx="2514600" cy="187812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Palaria sarpelui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228600" y="723960"/>
            <a:ext cx="2590920" cy="193500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Umbreluta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5867280" y="685800"/>
            <a:ext cx="2895840" cy="2160720"/>
          </a:xfrm>
          <a:prstGeom prst="rect">
            <a:avLst/>
          </a:prstGeom>
          <a:ln w="0">
            <a:noFill/>
          </a:ln>
        </p:spPr>
      </p:pic>
      <p:sp>
        <p:nvSpPr>
          <p:cNvPr id="216" name="">
            <a:hlinkClick r:id="" action="ppaction://hlinkshowjump?jump=nextslide"/>
            <a:hlinkClick r:id="rId11"/>
          </p:cNvPr>
          <p:cNvSpPr/>
          <p:nvPr/>
        </p:nvSpPr>
        <p:spPr>
          <a:xfrm>
            <a:off x="4038480" y="563868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3794"/>
                </a:moveTo>
                <a:lnTo>
                  <a:pt x="23202" y="10800"/>
                </a:lnTo>
                <a:lnTo>
                  <a:pt x="9189" y="17806"/>
                </a:lnTo>
                <a:close/>
              </a:path>
            </a:pathLst>
          </a:cu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Amanita                                                     hrib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18" name="" descr="amanita.jpg"/>
          <p:cNvPicPr/>
          <p:nvPr/>
        </p:nvPicPr>
        <p:blipFill>
          <a:blip r:embed="rId1"/>
          <a:stretch/>
        </p:blipFill>
        <p:spPr>
          <a:xfrm>
            <a:off x="228600" y="914400"/>
            <a:ext cx="4381560" cy="339084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hribu-color.jpg"/>
          <p:cNvPicPr/>
          <p:nvPr/>
        </p:nvPicPr>
        <p:blipFill>
          <a:blip r:embed="rId2"/>
          <a:stretch/>
        </p:blipFill>
        <p:spPr>
          <a:xfrm>
            <a:off x="4572000" y="2895480"/>
            <a:ext cx="4381560" cy="3076560"/>
          </a:xfrm>
          <a:prstGeom prst="rect">
            <a:avLst/>
          </a:prstGeom>
          <a:ln w="0">
            <a:noFill/>
          </a:ln>
        </p:spPr>
      </p:pic>
      <p:sp>
        <p:nvSpPr>
          <p:cNvPr id="220" name="">
            <a:hlinkClick r:id="" action="ppaction://hlinkshowjump?jump=nextslide"/>
            <a:hlinkClick r:id="rId3"/>
          </p:cNvPr>
          <p:cNvSpPr/>
          <p:nvPr/>
        </p:nvSpPr>
        <p:spPr>
          <a:xfrm>
            <a:off x="3733920" y="563868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3794"/>
                </a:moveTo>
                <a:lnTo>
                  <a:pt x="23202" y="10800"/>
                </a:lnTo>
                <a:lnTo>
                  <a:pt x="9189" y="17806"/>
                </a:lnTo>
                <a:close/>
              </a:path>
            </a:pathLst>
          </a:cu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4920" y="228600"/>
            <a:ext cx="3085920" cy="41148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715000" y="2286000"/>
            <a:ext cx="3257640" cy="434340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Batranete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429000" y="1009800"/>
            <a:ext cx="2286000" cy="17078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Hribi"/>
          <p:cNvPicPr/>
          <p:nvPr/>
        </p:nvPicPr>
        <p:blipFill>
          <a:blip r:embed="rId7"/>
          <a:stretch/>
        </p:blipFill>
        <p:spPr>
          <a:xfrm>
            <a:off x="3429000" y="3809880"/>
            <a:ext cx="2286000" cy="1697040"/>
          </a:xfrm>
          <a:prstGeom prst="rect">
            <a:avLst/>
          </a:prstGeom>
          <a:ln w="0">
            <a:noFill/>
          </a:ln>
        </p:spPr>
      </p:pic>
      <p:sp>
        <p:nvSpPr>
          <p:cNvPr id="225" name="">
            <a:hlinkClick r:id="" action="ppaction://hlinkshowjump?jump=nextslide"/>
            <a:hlinkClick r:id="rId8"/>
          </p:cNvPr>
          <p:cNvSpPr/>
          <p:nvPr/>
        </p:nvSpPr>
        <p:spPr>
          <a:xfrm>
            <a:off x="3962520" y="586728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3794"/>
                </a:moveTo>
                <a:lnTo>
                  <a:pt x="23202" y="10800"/>
                </a:lnTo>
                <a:lnTo>
                  <a:pt x="9189" y="17806"/>
                </a:lnTo>
                <a:close/>
              </a:path>
            </a:pathLst>
          </a:cu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cc"/>
                </a:solidFill>
                <a:latin typeface="Arial"/>
              </a:rPr>
              <a:t>Animale 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ocrotite </a:t>
            </a:r>
            <a:r>
              <a:rPr b="0" lang="ro-RO" sz="2800" spc="-1" strike="noStrike">
                <a:solidFill>
                  <a:srgbClr val="ffffcc"/>
                </a:solidFill>
                <a:latin typeface="Arial"/>
              </a:rPr>
              <a:t>din Carpaţi - zimbri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457200" y="914400"/>
            <a:ext cx="7848720" cy="5232240"/>
          </a:xfrm>
          <a:prstGeom prst="rect">
            <a:avLst/>
          </a:prstGeom>
          <a:ln w="0">
            <a:noFill/>
          </a:ln>
        </p:spPr>
      </p:pic>
      <p:sp>
        <p:nvSpPr>
          <p:cNvPr id="228" name="">
            <a:hlinkClick r:id="" action="ppaction://hlinkshowjump?jump=nextslide"/>
            <a:hlinkClick r:id="rId2"/>
          </p:cNvPr>
          <p:cNvSpPr/>
          <p:nvPr/>
        </p:nvSpPr>
        <p:spPr>
          <a:xfrm>
            <a:off x="4343400" y="609588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3794"/>
                </a:moveTo>
                <a:lnTo>
                  <a:pt x="23202" y="10800"/>
                </a:lnTo>
                <a:lnTo>
                  <a:pt x="9189" y="17806"/>
                </a:lnTo>
                <a:close/>
              </a:path>
            </a:pathLst>
          </a:cu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REZERVATIA DE ZIMBRI NEAMT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914400" y="1297080"/>
            <a:ext cx="7543800" cy="5016240"/>
          </a:xfrm>
          <a:prstGeom prst="rect">
            <a:avLst/>
          </a:prstGeom>
          <a:ln w="0">
            <a:noFill/>
          </a:ln>
        </p:spPr>
      </p:pic>
      <p:sp>
        <p:nvSpPr>
          <p:cNvPr id="231" name="">
            <a:hlinkClick r:id="" action="ppaction://hlinkshowjump?jump=nextslide"/>
            <a:hlinkClick r:id="rId2"/>
          </p:cNvPr>
          <p:cNvSpPr/>
          <p:nvPr/>
        </p:nvSpPr>
        <p:spPr>
          <a:xfrm>
            <a:off x="4343400" y="609588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3794"/>
                </a:moveTo>
                <a:lnTo>
                  <a:pt x="23202" y="10800"/>
                </a:lnTo>
                <a:lnTo>
                  <a:pt x="9189" y="17806"/>
                </a:lnTo>
                <a:close/>
              </a:path>
            </a:pathLst>
          </a:cu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Rezerva</a:t>
            </a:r>
            <a:r>
              <a:rPr b="0" lang="ro-RO" sz="4000" spc="-1" strike="noStrike">
                <a:solidFill>
                  <a:srgbClr val="ffffcc"/>
                </a:solidFill>
                <a:latin typeface="Arial"/>
              </a:rPr>
              <a:t>ţ</a:t>
            </a: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ia</a:t>
            </a:r>
            <a:r>
              <a:rPr b="0" lang="ro-RO" sz="4000" spc="-1" strike="noStrike">
                <a:solidFill>
                  <a:srgbClr val="ffffcc"/>
                </a:solidFill>
                <a:latin typeface="Arial"/>
              </a:rPr>
              <a:t> naturală</a:t>
            </a: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 M.Ha</a:t>
            </a:r>
            <a:r>
              <a:rPr b="0" lang="ro-RO" sz="4000" spc="-1" strike="noStrike">
                <a:solidFill>
                  <a:srgbClr val="ffffcc"/>
                </a:solidFill>
                <a:latin typeface="Arial"/>
              </a:rPr>
              <a:t>ţ</a:t>
            </a: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eg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3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" y="1085760"/>
            <a:ext cx="8153280" cy="5475240"/>
          </a:xfrm>
          <a:prstGeom prst="rect">
            <a:avLst/>
          </a:prstGeom>
          <a:ln w="0">
            <a:noFill/>
          </a:ln>
        </p:spPr>
      </p:pic>
      <p:sp>
        <p:nvSpPr>
          <p:cNvPr id="234" name="">
            <a:hlinkClick r:id="" action="ppaction://hlinkshowjump?jump=nextslide"/>
            <a:hlinkClick r:id="rId3"/>
          </p:cNvPr>
          <p:cNvSpPr/>
          <p:nvPr/>
        </p:nvSpPr>
        <p:spPr>
          <a:xfrm>
            <a:off x="43434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3794"/>
                </a:moveTo>
                <a:lnTo>
                  <a:pt x="23202" y="10800"/>
                </a:lnTo>
                <a:lnTo>
                  <a:pt x="9189" y="17806"/>
                </a:lnTo>
                <a:close/>
              </a:path>
            </a:pathLst>
          </a:cu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Flora </a:t>
            </a:r>
            <a:r>
              <a:rPr b="0" lang="ro-RO" sz="4000" spc="-1" strike="noStrike">
                <a:solidFill>
                  <a:srgbClr val="ffffcc"/>
                </a:solidFill>
                <a:latin typeface="Arial"/>
              </a:rPr>
              <a:t> şi </a:t>
            </a: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fauna din Carpa</a:t>
            </a:r>
            <a:r>
              <a:rPr b="0" lang="ro-RO" sz="4000" spc="-1" strike="noStrike">
                <a:solidFill>
                  <a:srgbClr val="ffffcc"/>
                </a:solidFill>
                <a:latin typeface="Arial"/>
              </a:rPr>
              <a:t>ţ</a:t>
            </a: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i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1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867280" y="4343400"/>
            <a:ext cx="3048120" cy="20318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5791320" y="1600200"/>
            <a:ext cx="3047760" cy="216216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352680" y="1371600"/>
            <a:ext cx="2362320" cy="15955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3352680" y="2971800"/>
            <a:ext cx="2363760" cy="35812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152280" y="1600200"/>
            <a:ext cx="3124440" cy="2073240"/>
          </a:xfrm>
          <a:prstGeom prst="rect">
            <a:avLst/>
          </a:prstGeom>
          <a:ln w="0">
            <a:noFill/>
          </a:ln>
        </p:spPr>
      </p:pic>
      <p:sp>
        <p:nvSpPr>
          <p:cNvPr id="123" name="">
            <a:hlinkClick r:id="" action="ppaction://hlinkshowjump?jump=nextslide"/>
            <a:hlinkClick r:id="rId10"/>
          </p:cNvPr>
          <p:cNvSpPr/>
          <p:nvPr/>
        </p:nvSpPr>
        <p:spPr>
          <a:xfrm>
            <a:off x="43434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3794"/>
                </a:moveTo>
                <a:lnTo>
                  <a:pt x="23202" y="10800"/>
                </a:lnTo>
                <a:lnTo>
                  <a:pt x="9189" y="17806"/>
                </a:lnTo>
                <a:close/>
              </a:path>
            </a:pathLst>
          </a:cu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1"/>
          <a:stretch/>
        </p:blipFill>
        <p:spPr>
          <a:xfrm>
            <a:off x="228600" y="4114800"/>
            <a:ext cx="2857680" cy="22669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384120"/>
            <a:ext cx="7467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apra neagr</a:t>
            </a:r>
            <a:r>
              <a:rPr b="0" lang="ro-RO" sz="2800" spc="-1" strike="noStrike">
                <a:solidFill>
                  <a:srgbClr val="eaeaea"/>
                </a:solidFill>
                <a:latin typeface="Arial"/>
              </a:rPr>
              <a:t>ă</a:t>
            </a:r>
            <a:br>
              <a:rPr sz="2800"/>
            </a:b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3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" y="3886200"/>
            <a:ext cx="3352680" cy="243216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181480" y="3809880"/>
            <a:ext cx="3581640" cy="239580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257800" y="838080"/>
            <a:ext cx="3429000" cy="257184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7"/>
          <a:stretch/>
        </p:blipFill>
        <p:spPr>
          <a:xfrm>
            <a:off x="2743200" y="1600200"/>
            <a:ext cx="2590920" cy="230976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Capra neagra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762120" y="685800"/>
            <a:ext cx="2000160" cy="3200400"/>
          </a:xfrm>
          <a:prstGeom prst="rect">
            <a:avLst/>
          </a:prstGeom>
          <a:ln w="0">
            <a:noFill/>
          </a:ln>
        </p:spPr>
      </p:pic>
      <p:sp>
        <p:nvSpPr>
          <p:cNvPr id="241" name="">
            <a:hlinkClick r:id="" action="ppaction://hlinkshowjump?jump=nextslide"/>
            <a:hlinkClick r:id="rId10"/>
          </p:cNvPr>
          <p:cNvSpPr/>
          <p:nvPr/>
        </p:nvSpPr>
        <p:spPr>
          <a:xfrm>
            <a:off x="4191120" y="586728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3794"/>
                </a:moveTo>
                <a:lnTo>
                  <a:pt x="23202" y="10800"/>
                </a:lnTo>
                <a:lnTo>
                  <a:pt x="9189" y="17806"/>
                </a:lnTo>
                <a:close/>
              </a:path>
            </a:pathLst>
          </a:cu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42" name="" descr="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3352680" y="3886200"/>
            <a:ext cx="2438640" cy="18352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eaeaea"/>
                </a:solidFill>
                <a:latin typeface="Verdana"/>
              </a:rPr>
              <a:t>                   </a:t>
            </a:r>
            <a:r>
              <a:rPr b="0" lang="ro-RO" sz="2000" spc="-1" strike="noStrike">
                <a:solidFill>
                  <a:srgbClr val="eaeaea"/>
                </a:solidFill>
                <a:latin typeface="Verdana"/>
              </a:rPr>
              <a:t>Ursul                                                Lupu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44" name="" descr="Lup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14880" y="1219320"/>
            <a:ext cx="3129120" cy="4647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Urs carpatin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1219320"/>
            <a:ext cx="3759120" cy="563868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657600" y="4267080"/>
            <a:ext cx="2666880" cy="2246400"/>
          </a:xfrm>
          <a:prstGeom prst="rect">
            <a:avLst/>
          </a:prstGeom>
          <a:ln w="0">
            <a:noFill/>
          </a:ln>
        </p:spPr>
      </p:pic>
      <p:sp>
        <p:nvSpPr>
          <p:cNvPr id="247" name="">
            <a:hlinkClick r:id="" action="ppaction://hlinkshowjump?jump=nextslide"/>
            <a:hlinkClick r:id="rId7"/>
          </p:cNvPr>
          <p:cNvSpPr/>
          <p:nvPr/>
        </p:nvSpPr>
        <p:spPr>
          <a:xfrm>
            <a:off x="6858000" y="61722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3794"/>
                </a:moveTo>
                <a:lnTo>
                  <a:pt x="23202" y="10800"/>
                </a:lnTo>
                <a:lnTo>
                  <a:pt x="9189" y="17806"/>
                </a:lnTo>
                <a:close/>
              </a:path>
            </a:pathLst>
          </a:cu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48" name="" descr="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3733920" y="1219320"/>
            <a:ext cx="2438280" cy="18255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457200" y="304560"/>
            <a:ext cx="8229600" cy="58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eaeaea"/>
                </a:solidFill>
                <a:latin typeface="Verdana"/>
              </a:rPr>
              <a:t>Mistreţul                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5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4920" y="914400"/>
            <a:ext cx="4343400" cy="340056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371600" y="4495680"/>
            <a:ext cx="2895480" cy="179892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952880" y="1295280"/>
            <a:ext cx="2210040" cy="167184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7"/>
          <a:stretch/>
        </p:blipFill>
        <p:spPr>
          <a:xfrm>
            <a:off x="4648320" y="3200400"/>
            <a:ext cx="4190760" cy="3294000"/>
          </a:xfrm>
          <a:prstGeom prst="rect">
            <a:avLst/>
          </a:prstGeom>
          <a:ln w="0">
            <a:noFill/>
          </a:ln>
        </p:spPr>
      </p:pic>
      <p:sp>
        <p:nvSpPr>
          <p:cNvPr id="254" name="">
            <a:hlinkClick r:id="" action="ppaction://hlinkshowjump?jump=nextslide"/>
            <a:hlinkClick r:id="rId8"/>
          </p:cNvPr>
          <p:cNvSpPr/>
          <p:nvPr/>
        </p:nvSpPr>
        <p:spPr>
          <a:xfrm>
            <a:off x="426708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3794"/>
                </a:moveTo>
                <a:lnTo>
                  <a:pt x="23202" y="10800"/>
                </a:lnTo>
                <a:lnTo>
                  <a:pt x="9189" y="17806"/>
                </a:lnTo>
                <a:close/>
              </a:path>
            </a:pathLst>
          </a:cu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" descr="Caprioara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4920" y="914400"/>
            <a:ext cx="4647960" cy="3105000"/>
          </a:xfrm>
          <a:prstGeom prst="rect">
            <a:avLst/>
          </a:prstGeom>
          <a:ln w="0">
            <a:noFill/>
          </a:ln>
        </p:spPr>
      </p:pic>
      <p:sp>
        <p:nvSpPr>
          <p:cNvPr id="256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8229600" cy="58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eaeaea"/>
                </a:solidFill>
                <a:latin typeface="Verdana"/>
              </a:rPr>
              <a:t>Căprioara  şi cerbul          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57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04920" y="4038480"/>
            <a:ext cx="2438280" cy="2438640"/>
          </a:xfrm>
          <a:prstGeom prst="rect">
            <a:avLst/>
          </a:prstGeom>
          <a:ln w="0">
            <a:noFill/>
          </a:ln>
        </p:spPr>
      </p:pic>
      <p:sp>
        <p:nvSpPr>
          <p:cNvPr id="258" name="">
            <a:hlinkClick r:id="" action="ppaction://hlinkshowjump?jump=nextslide"/>
            <a:hlinkClick r:id="rId5"/>
          </p:cNvPr>
          <p:cNvSpPr/>
          <p:nvPr/>
        </p:nvSpPr>
        <p:spPr>
          <a:xfrm>
            <a:off x="52578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3794"/>
                </a:moveTo>
                <a:lnTo>
                  <a:pt x="23202" y="10800"/>
                </a:lnTo>
                <a:lnTo>
                  <a:pt x="9189" y="17806"/>
                </a:lnTo>
                <a:close/>
              </a:path>
            </a:pathLst>
          </a:cu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59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5029200" y="914400"/>
            <a:ext cx="3733920" cy="315288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3352680" y="3886200"/>
            <a:ext cx="3200400" cy="245916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6781680" y="4038480"/>
            <a:ext cx="2001960" cy="23623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/>
          </p:nvPr>
        </p:nvSpPr>
        <p:spPr>
          <a:xfrm>
            <a:off x="456840" y="228240"/>
            <a:ext cx="8458200" cy="590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eaeaea"/>
                </a:solidFill>
                <a:latin typeface="Verdana"/>
              </a:rPr>
              <a:t>RÂSUL      DIHORUL     PISICA SĂLBATICĂ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eaeaea"/>
                </a:solidFill>
                <a:latin typeface="Verdana"/>
              </a:rPr>
              <a:t>                            </a:t>
            </a:r>
            <a:r>
              <a:rPr b="0" lang="ro-RO" sz="2800" spc="-1" strike="noStrike">
                <a:solidFill>
                  <a:srgbClr val="eaeaea"/>
                </a:solidFill>
                <a:latin typeface="Verdana"/>
              </a:rPr>
              <a:t>JDERUL                 Vidra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63" name="" descr="dihorul mustela putoriu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819520" y="1295280"/>
            <a:ext cx="2590560" cy="214812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Râs (Lynx lynx)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1295280"/>
            <a:ext cx="2895480" cy="434340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562720" y="1143000"/>
            <a:ext cx="1752480" cy="117468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4038480" y="3429000"/>
            <a:ext cx="2819520" cy="1955880"/>
          </a:xfrm>
          <a:prstGeom prst="rect">
            <a:avLst/>
          </a:prstGeom>
          <a:ln w="0">
            <a:noFill/>
          </a:ln>
        </p:spPr>
      </p:pic>
      <p:sp>
        <p:nvSpPr>
          <p:cNvPr id="267" name="">
            <a:hlinkClick r:id="" action="ppaction://hlinkshowjump?jump=nextslide"/>
            <a:hlinkClick r:id="rId9"/>
          </p:cNvPr>
          <p:cNvSpPr/>
          <p:nvPr/>
        </p:nvSpPr>
        <p:spPr>
          <a:xfrm>
            <a:off x="4800600" y="609588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3794"/>
                </a:moveTo>
                <a:lnTo>
                  <a:pt x="23202" y="10800"/>
                </a:lnTo>
                <a:lnTo>
                  <a:pt x="9189" y="17806"/>
                </a:lnTo>
                <a:close/>
              </a:path>
            </a:pathLst>
          </a:cu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68" name="" descr="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6858000" y="2286000"/>
            <a:ext cx="2286000" cy="171936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6781680" y="4038480"/>
            <a:ext cx="2362320" cy="16351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39625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ffffcc"/>
                </a:solidFill>
                <a:latin typeface="Arial"/>
              </a:rPr>
              <a:t>Vulpea 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7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4920" y="1295280"/>
            <a:ext cx="3687480" cy="373392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962520" y="838080"/>
            <a:ext cx="4952880" cy="2662200"/>
          </a:xfrm>
          <a:prstGeom prst="rect">
            <a:avLst/>
          </a:prstGeom>
          <a:ln w="0">
            <a:noFill/>
          </a:ln>
        </p:spPr>
      </p:pic>
      <p:sp>
        <p:nvSpPr>
          <p:cNvPr id="273" name="">
            <a:hlinkClick r:id="" action="ppaction://hlinkshowjump?jump=nextslide"/>
            <a:hlinkClick r:id="rId5"/>
          </p:cNvPr>
          <p:cNvSpPr/>
          <p:nvPr/>
        </p:nvSpPr>
        <p:spPr>
          <a:xfrm>
            <a:off x="3200400" y="533412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3794"/>
                </a:moveTo>
                <a:lnTo>
                  <a:pt x="23202" y="10800"/>
                </a:lnTo>
                <a:lnTo>
                  <a:pt x="9189" y="17806"/>
                </a:lnTo>
                <a:close/>
              </a:path>
            </a:pathLst>
          </a:cu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74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4038480" y="3733920"/>
            <a:ext cx="4267440" cy="25747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/>
          </p:nvPr>
        </p:nvSpPr>
        <p:spPr>
          <a:xfrm>
            <a:off x="457200" y="380880"/>
            <a:ext cx="8229600" cy="574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eaeaea"/>
                </a:solidFill>
                <a:latin typeface="Verdana"/>
              </a:rPr>
              <a:t>VEVERIŢA                  ARICIU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7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" y="1143000"/>
            <a:ext cx="2514600" cy="186696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181480" y="4648320"/>
            <a:ext cx="2286000" cy="181296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666880" y="2819520"/>
            <a:ext cx="2971800" cy="198900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457200" y="3276720"/>
            <a:ext cx="1981080" cy="2895480"/>
          </a:xfrm>
          <a:prstGeom prst="rect">
            <a:avLst/>
          </a:prstGeom>
          <a:ln w="0">
            <a:noFill/>
          </a:ln>
        </p:spPr>
      </p:pic>
      <p:pic>
        <p:nvPicPr>
          <p:cNvPr id="280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5334120" y="1066680"/>
            <a:ext cx="3047760" cy="2295720"/>
          </a:xfrm>
          <a:prstGeom prst="rect">
            <a:avLst/>
          </a:prstGeom>
          <a:ln w="0">
            <a:noFill/>
          </a:ln>
        </p:spPr>
      </p:pic>
      <p:sp>
        <p:nvSpPr>
          <p:cNvPr id="281" name="">
            <a:hlinkClick r:id="" action="ppaction://hlinkshowjump?jump=nextslide"/>
            <a:hlinkClick r:id="rId11"/>
          </p:cNvPr>
          <p:cNvSpPr/>
          <p:nvPr/>
        </p:nvSpPr>
        <p:spPr>
          <a:xfrm>
            <a:off x="4191120" y="609588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3794"/>
                </a:moveTo>
                <a:lnTo>
                  <a:pt x="23202" y="10800"/>
                </a:lnTo>
                <a:lnTo>
                  <a:pt x="9189" y="17806"/>
                </a:lnTo>
                <a:close/>
              </a:path>
            </a:pathLst>
          </a:cu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eaeaea"/>
                </a:solidFill>
                <a:latin typeface="Verdana"/>
              </a:rPr>
              <a:t>Păsări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8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5800" y="1143000"/>
            <a:ext cx="2133720" cy="160020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172200" y="3657600"/>
            <a:ext cx="2082960" cy="2895480"/>
          </a:xfrm>
          <a:prstGeom prst="rect">
            <a:avLst/>
          </a:prstGeom>
          <a:ln w="0">
            <a:noFill/>
          </a:ln>
        </p:spPr>
      </p:pic>
      <p:pic>
        <p:nvPicPr>
          <p:cNvPr id="285" name="" descr="Un sturz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172200" y="228600"/>
            <a:ext cx="2239920" cy="2971800"/>
          </a:xfrm>
          <a:prstGeom prst="rect">
            <a:avLst/>
          </a:prstGeom>
          <a:ln w="0">
            <a:noFill/>
          </a:ln>
        </p:spPr>
      </p:pic>
      <p:pic>
        <p:nvPicPr>
          <p:cNvPr id="286" name="" descr="ciconia ciconia-barza alba"/>
          <p:cNvPicPr/>
          <p:nvPr/>
        </p:nvPicPr>
        <p:blipFill>
          <a:blip r:embed="rId7"/>
          <a:stretch/>
        </p:blipFill>
        <p:spPr>
          <a:xfrm>
            <a:off x="2895480" y="1981080"/>
            <a:ext cx="3276720" cy="2119320"/>
          </a:xfrm>
          <a:prstGeom prst="rect">
            <a:avLst/>
          </a:prstGeom>
          <a:ln w="0">
            <a:noFill/>
          </a:ln>
        </p:spPr>
      </p:pic>
      <p:pic>
        <p:nvPicPr>
          <p:cNvPr id="287" name="" descr="Codobatura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685800" y="4114800"/>
            <a:ext cx="2286000" cy="2239920"/>
          </a:xfrm>
          <a:prstGeom prst="rect">
            <a:avLst/>
          </a:prstGeom>
          <a:ln w="0">
            <a:noFill/>
          </a:ln>
        </p:spPr>
      </p:pic>
      <p:pic>
        <p:nvPicPr>
          <p:cNvPr id="288" name="" descr="Un pic de roua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3429000" y="4114800"/>
            <a:ext cx="2362320" cy="176364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3505320" y="380880"/>
            <a:ext cx="2133360" cy="1730520"/>
          </a:xfrm>
          <a:prstGeom prst="rect">
            <a:avLst/>
          </a:prstGeom>
          <a:ln w="0">
            <a:noFill/>
          </a:ln>
        </p:spPr>
      </p:pic>
      <p:sp>
        <p:nvSpPr>
          <p:cNvPr id="290" name="">
            <a:hlinkClick r:id="" action="ppaction://hlinkshowjump?jump=nextslide"/>
            <a:hlinkClick r:id="rId14"/>
          </p:cNvPr>
          <p:cNvSpPr/>
          <p:nvPr/>
        </p:nvSpPr>
        <p:spPr>
          <a:xfrm>
            <a:off x="4419720" y="59436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3794"/>
                </a:moveTo>
                <a:lnTo>
                  <a:pt x="23202" y="10800"/>
                </a:lnTo>
                <a:lnTo>
                  <a:pt x="9189" y="17806"/>
                </a:lnTo>
                <a:close/>
              </a:path>
            </a:pathLst>
          </a:cu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/>
          </p:nvPr>
        </p:nvSpPr>
        <p:spPr>
          <a:xfrm>
            <a:off x="0" y="151920"/>
            <a:ext cx="9144000" cy="67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eaeaea"/>
                </a:solidFill>
                <a:latin typeface="Verdana"/>
              </a:rPr>
              <a:t>Vulturul               acvila                  şoimul           uliul    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9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905120" y="1828800"/>
            <a:ext cx="1523880" cy="1523880"/>
          </a:xfrm>
          <a:prstGeom prst="rect">
            <a:avLst/>
          </a:prstGeom>
          <a:ln w="0">
            <a:noFill/>
          </a:ln>
        </p:spPr>
      </p:pic>
      <p:pic>
        <p:nvPicPr>
          <p:cNvPr id="293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38080" y="3429000"/>
            <a:ext cx="2819520" cy="189396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28600" y="5257800"/>
            <a:ext cx="2057400" cy="139212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3657600" y="2286000"/>
            <a:ext cx="2209680" cy="171612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228600" y="990720"/>
            <a:ext cx="1676520" cy="243828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5867280" y="762120"/>
            <a:ext cx="1665360" cy="2133360"/>
          </a:xfrm>
          <a:prstGeom prst="rect">
            <a:avLst/>
          </a:prstGeom>
          <a:ln w="0">
            <a:noFill/>
          </a:ln>
        </p:spPr>
      </p:pic>
      <p:pic>
        <p:nvPicPr>
          <p:cNvPr id="298" name="" descr="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3429000" y="685800"/>
            <a:ext cx="1905120" cy="160020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15"/>
          <a:stretch/>
        </p:blipFill>
        <p:spPr>
          <a:xfrm>
            <a:off x="4343400" y="3886200"/>
            <a:ext cx="1847880" cy="2743200"/>
          </a:xfrm>
          <a:prstGeom prst="rect">
            <a:avLst/>
          </a:prstGeom>
          <a:ln w="0">
            <a:noFill/>
          </a:ln>
        </p:spPr>
      </p:pic>
      <p:pic>
        <p:nvPicPr>
          <p:cNvPr id="300" name="" descr=""/>
          <p:cNvPicPr/>
          <p:nvPr/>
        </p:nvPicPr>
        <p:blipFill>
          <a:blip r:embed="rId16"/>
          <a:stretch/>
        </p:blipFill>
        <p:spPr>
          <a:xfrm>
            <a:off x="6553080" y="3048120"/>
            <a:ext cx="2438640" cy="2133360"/>
          </a:xfrm>
          <a:prstGeom prst="rect">
            <a:avLst/>
          </a:prstGeom>
          <a:ln w="0">
            <a:noFill/>
          </a:ln>
        </p:spPr>
      </p:pic>
      <p:sp>
        <p:nvSpPr>
          <p:cNvPr id="301" name="">
            <a:hlinkClick r:id="" action="ppaction://hlinkshowjump?jump=nextslide"/>
            <a:hlinkClick r:id="rId17"/>
          </p:cNvPr>
          <p:cNvSpPr/>
          <p:nvPr/>
        </p:nvSpPr>
        <p:spPr>
          <a:xfrm>
            <a:off x="3505320" y="59436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3794"/>
                </a:moveTo>
                <a:lnTo>
                  <a:pt x="23202" y="10800"/>
                </a:lnTo>
                <a:lnTo>
                  <a:pt x="9189" y="17806"/>
                </a:lnTo>
                <a:close/>
              </a:path>
            </a:pathLst>
          </a:cu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/>
          </p:nvPr>
        </p:nvSpPr>
        <p:spPr>
          <a:xfrm>
            <a:off x="457200" y="380880"/>
            <a:ext cx="8229600" cy="574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eaeaea"/>
                </a:solidFill>
                <a:latin typeface="Verdana"/>
              </a:rPr>
              <a:t>Liliacu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303" name="" descr="liliac-cazut.jpg"/>
          <p:cNvPicPr/>
          <p:nvPr/>
        </p:nvPicPr>
        <p:blipFill>
          <a:blip r:embed="rId1"/>
          <a:stretch/>
        </p:blipFill>
        <p:spPr>
          <a:xfrm>
            <a:off x="533520" y="1371600"/>
            <a:ext cx="3733560" cy="267192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/>
          <p:cNvPicPr/>
          <p:nvPr/>
        </p:nvPicPr>
        <p:blipFill>
          <a:blip r:embed="rId2"/>
          <a:stretch/>
        </p:blipFill>
        <p:spPr>
          <a:xfrm>
            <a:off x="3886200" y="3352680"/>
            <a:ext cx="5029200" cy="2792520"/>
          </a:xfrm>
          <a:prstGeom prst="rect">
            <a:avLst/>
          </a:prstGeom>
          <a:ln w="0">
            <a:noFill/>
          </a:ln>
        </p:spPr>
      </p:pic>
      <p:sp>
        <p:nvSpPr>
          <p:cNvPr id="305" name="">
            <a:hlinkClick r:id="" action="ppaction://hlinkshowjump?jump=nextslide"/>
            <a:hlinkClick r:id="rId3"/>
          </p:cNvPr>
          <p:cNvSpPr/>
          <p:nvPr/>
        </p:nvSpPr>
        <p:spPr>
          <a:xfrm>
            <a:off x="4267080" y="601992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3794"/>
                </a:moveTo>
                <a:lnTo>
                  <a:pt x="23202" y="10800"/>
                </a:lnTo>
                <a:lnTo>
                  <a:pt x="9189" y="17806"/>
                </a:lnTo>
                <a:close/>
              </a:path>
            </a:pathLst>
          </a:cu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ffffcc"/>
                </a:solidFill>
                <a:latin typeface="Arial"/>
              </a:rPr>
              <a:t>Floarea de colţ 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400800" y="1905120"/>
            <a:ext cx="2771640" cy="350496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276720" y="1143000"/>
            <a:ext cx="3429000" cy="23893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floare de colt"/>
          <p:cNvPicPr/>
          <p:nvPr/>
        </p:nvPicPr>
        <p:blipFill>
          <a:blip r:embed="rId5"/>
          <a:stretch/>
        </p:blipFill>
        <p:spPr>
          <a:xfrm>
            <a:off x="3429000" y="3809880"/>
            <a:ext cx="3429000" cy="227808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[floare_de_colt_0027.jpg]"/>
          <p:cNvPicPr/>
          <p:nvPr/>
        </p:nvPicPr>
        <p:blipFill>
          <a:blip r:embed="rId6"/>
          <a:stretch/>
        </p:blipFill>
        <p:spPr>
          <a:xfrm>
            <a:off x="0" y="1143000"/>
            <a:ext cx="3543480" cy="4724280"/>
          </a:xfrm>
          <a:prstGeom prst="rect">
            <a:avLst/>
          </a:prstGeom>
          <a:ln w="0">
            <a:noFill/>
          </a:ln>
        </p:spPr>
      </p:pic>
      <p:sp>
        <p:nvSpPr>
          <p:cNvPr id="130" name="">
            <a:hlinkClick r:id="" action="ppaction://hlinkshowjump?jump=nextslide"/>
            <a:hlinkClick r:id="rId7"/>
          </p:cNvPr>
          <p:cNvSpPr/>
          <p:nvPr/>
        </p:nvSpPr>
        <p:spPr>
          <a:xfrm>
            <a:off x="4419720" y="601992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3794"/>
                </a:moveTo>
                <a:lnTo>
                  <a:pt x="23202" y="10800"/>
                </a:lnTo>
                <a:lnTo>
                  <a:pt x="9189" y="17806"/>
                </a:lnTo>
                <a:close/>
              </a:path>
            </a:pathLst>
          </a:cu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590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eaeaea"/>
                </a:solidFill>
                <a:latin typeface="Verdana"/>
              </a:rPr>
              <a:t>Reptile: salamndra, vipera, şopârla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3809880" y="1447920"/>
            <a:ext cx="3733920" cy="157320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2"/>
          <a:stretch/>
        </p:blipFill>
        <p:spPr>
          <a:xfrm>
            <a:off x="152280" y="1371600"/>
            <a:ext cx="3444840" cy="457200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Ce 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486400" y="3352680"/>
            <a:ext cx="3276720" cy="2446560"/>
          </a:xfrm>
          <a:prstGeom prst="rect">
            <a:avLst/>
          </a:prstGeom>
          <a:ln w="0">
            <a:noFill/>
          </a:ln>
        </p:spPr>
      </p:pic>
      <p:sp>
        <p:nvSpPr>
          <p:cNvPr id="310" name="">
            <a:hlinkClick r:id="" action="ppaction://hlinkshowjump?jump=nextslide"/>
            <a:hlinkClick r:id="rId5"/>
          </p:cNvPr>
          <p:cNvSpPr/>
          <p:nvPr/>
        </p:nvSpPr>
        <p:spPr>
          <a:xfrm>
            <a:off x="4495680" y="601992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3794"/>
                </a:moveTo>
                <a:lnTo>
                  <a:pt x="23202" y="10800"/>
                </a:lnTo>
                <a:lnTo>
                  <a:pt x="9189" y="17806"/>
                </a:lnTo>
                <a:close/>
              </a:path>
            </a:pathLst>
          </a:cu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1295280"/>
            <a:ext cx="2400480" cy="3200400"/>
          </a:xfrm>
          <a:prstGeom prst="rect">
            <a:avLst/>
          </a:prstGeom>
          <a:ln w="0">
            <a:noFill/>
          </a:ln>
        </p:spPr>
      </p:pic>
      <p:pic>
        <p:nvPicPr>
          <p:cNvPr id="312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438280" y="4038480"/>
            <a:ext cx="3733920" cy="2567160"/>
          </a:xfrm>
          <a:prstGeom prst="rect">
            <a:avLst/>
          </a:prstGeom>
          <a:ln w="0">
            <a:noFill/>
          </a:ln>
        </p:spPr>
      </p:pic>
      <p:pic>
        <p:nvPicPr>
          <p:cNvPr id="31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438280" y="609480"/>
            <a:ext cx="3810240" cy="3148200"/>
          </a:xfrm>
          <a:prstGeom prst="rect">
            <a:avLst/>
          </a:prstGeom>
          <a:ln w="0">
            <a:noFill/>
          </a:ln>
        </p:spPr>
      </p:pic>
      <p:pic>
        <p:nvPicPr>
          <p:cNvPr id="314" name="" descr="Calugarita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248520" y="1905120"/>
            <a:ext cx="2671560" cy="2971800"/>
          </a:xfrm>
          <a:prstGeom prst="rect">
            <a:avLst/>
          </a:prstGeom>
          <a:ln w="0">
            <a:noFill/>
          </a:ln>
        </p:spPr>
      </p:pic>
      <p:sp>
        <p:nvSpPr>
          <p:cNvPr id="315" name="">
            <a:hlinkClick r:id="" action="ppaction://hlinkshowjump?jump=nextslide"/>
            <a:hlinkClick r:id="rId9"/>
          </p:cNvPr>
          <p:cNvSpPr/>
          <p:nvPr/>
        </p:nvSpPr>
        <p:spPr>
          <a:xfrm>
            <a:off x="6172200" y="61722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3794"/>
                </a:moveTo>
                <a:lnTo>
                  <a:pt x="23202" y="10800"/>
                </a:lnTo>
                <a:lnTo>
                  <a:pt x="9189" y="17806"/>
                </a:lnTo>
                <a:close/>
              </a:path>
            </a:pathLst>
          </a:cu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" descr="Melcisori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819520" y="228600"/>
            <a:ext cx="2895480" cy="2162160"/>
          </a:xfrm>
          <a:prstGeom prst="rect">
            <a:avLst/>
          </a:prstGeom>
          <a:ln w="0">
            <a:noFill/>
          </a:ln>
        </p:spPr>
      </p:pic>
      <p:pic>
        <p:nvPicPr>
          <p:cNvPr id="317" name="" descr="Calul popii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52280" y="1066680"/>
            <a:ext cx="2667240" cy="1990800"/>
          </a:xfrm>
          <a:prstGeom prst="rect">
            <a:avLst/>
          </a:prstGeom>
          <a:ln w="0">
            <a:noFill/>
          </a:ln>
        </p:spPr>
      </p:pic>
      <p:pic>
        <p:nvPicPr>
          <p:cNvPr id="318" name="" descr="Ora mesei!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28600" y="4038480"/>
            <a:ext cx="2590920" cy="1933560"/>
          </a:xfrm>
          <a:prstGeom prst="rect">
            <a:avLst/>
          </a:prstGeom>
          <a:ln w="0">
            <a:noFill/>
          </a:ln>
        </p:spPr>
      </p:pic>
      <p:pic>
        <p:nvPicPr>
          <p:cNvPr id="319" name="" descr="Viespe la bizz-ness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5791320" y="3962520"/>
            <a:ext cx="2819160" cy="2106360"/>
          </a:xfrm>
          <a:prstGeom prst="rect">
            <a:avLst/>
          </a:prstGeom>
          <a:ln w="0">
            <a:noFill/>
          </a:ln>
        </p:spPr>
      </p:pic>
      <p:pic>
        <p:nvPicPr>
          <p:cNvPr id="320" name="" descr="Ma odihnesc un pic...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5791320" y="1219320"/>
            <a:ext cx="3200400" cy="2387520"/>
          </a:xfrm>
          <a:prstGeom prst="rect">
            <a:avLst/>
          </a:prstGeom>
          <a:ln w="0">
            <a:noFill/>
          </a:ln>
        </p:spPr>
      </p:pic>
      <p:pic>
        <p:nvPicPr>
          <p:cNvPr id="321" name="" descr="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2743200" y="2971800"/>
            <a:ext cx="3048120" cy="2495520"/>
          </a:xfrm>
          <a:prstGeom prst="rect">
            <a:avLst/>
          </a:prstGeom>
          <a:ln w="0">
            <a:noFill/>
          </a:ln>
        </p:spPr>
      </p:pic>
      <p:sp>
        <p:nvSpPr>
          <p:cNvPr id="322" name="">
            <a:hlinkClick r:id="" action="ppaction://hlinkshowjump?jump=nextslide"/>
            <a:hlinkClick r:id="rId13"/>
          </p:cNvPr>
          <p:cNvSpPr/>
          <p:nvPr/>
        </p:nvSpPr>
        <p:spPr>
          <a:xfrm>
            <a:off x="5029200" y="624852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3794"/>
                </a:moveTo>
                <a:lnTo>
                  <a:pt x="23202" y="10800"/>
                </a:lnTo>
                <a:lnTo>
                  <a:pt x="9189" y="17806"/>
                </a:lnTo>
                <a:close/>
              </a:path>
            </a:pathLst>
          </a:cu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ffffcc"/>
                </a:solidFill>
                <a:latin typeface="Arial"/>
              </a:rPr>
              <a:t>Turme de oi pe munte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324" name="" descr="Crescătorii de animale din Borşa ameninţă cu ocuparea unor păşuni din Cîrlibaba"/>
          <p:cNvPicPr/>
          <p:nvPr/>
        </p:nvPicPr>
        <p:blipFill>
          <a:blip r:embed="rId1"/>
          <a:stretch/>
        </p:blipFill>
        <p:spPr>
          <a:xfrm>
            <a:off x="2743200" y="1371600"/>
            <a:ext cx="2749680" cy="3657600"/>
          </a:xfrm>
          <a:prstGeom prst="rect">
            <a:avLst/>
          </a:prstGeom>
          <a:ln w="0">
            <a:noFill/>
          </a:ln>
        </p:spPr>
      </p:pic>
      <p:pic>
        <p:nvPicPr>
          <p:cNvPr id="32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1066680"/>
            <a:ext cx="2362320" cy="1766880"/>
          </a:xfrm>
          <a:prstGeom prst="rect">
            <a:avLst/>
          </a:prstGeom>
          <a:ln w="0">
            <a:noFill/>
          </a:ln>
        </p:spPr>
      </p:pic>
      <p:pic>
        <p:nvPicPr>
          <p:cNvPr id="326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04920" y="4038480"/>
            <a:ext cx="2361960" cy="1882800"/>
          </a:xfrm>
          <a:prstGeom prst="rect">
            <a:avLst/>
          </a:prstGeom>
          <a:ln w="0">
            <a:noFill/>
          </a:ln>
        </p:spPr>
      </p:pic>
      <p:pic>
        <p:nvPicPr>
          <p:cNvPr id="327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5943600" y="3276720"/>
            <a:ext cx="2413080" cy="3200400"/>
          </a:xfrm>
          <a:prstGeom prst="rect">
            <a:avLst/>
          </a:prstGeom>
          <a:ln w="0">
            <a:noFill/>
          </a:ln>
        </p:spPr>
      </p:pic>
      <p:pic>
        <p:nvPicPr>
          <p:cNvPr id="328" name="" descr="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5791320" y="1047600"/>
            <a:ext cx="2743200" cy="20512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5562720" cy="6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FLORI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838188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CLOPOTEL       garofita de munte  </a:t>
            </a:r>
            <a:r>
              <a:rPr b="0" lang="ro-RO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   trandafiri </a:t>
            </a:r>
            <a:r>
              <a:rPr b="0" lang="ro-RO" sz="1800" spc="-1" strike="noStrike">
                <a:solidFill>
                  <a:srgbClr val="eaeaea"/>
                </a:solidFill>
                <a:latin typeface="Verdana"/>
              </a:rPr>
              <a:t>   </a:t>
            </a: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ro-RO" sz="1800" spc="-1" strike="noStrike">
                <a:solidFill>
                  <a:srgbClr val="eaeaea"/>
                </a:solidFill>
                <a:latin typeface="Verdana"/>
              </a:rPr>
              <a:t>sângele voinicului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8600" y="1523880"/>
            <a:ext cx="1981080" cy="198144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286000" y="1447920"/>
            <a:ext cx="2133720" cy="198108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495680" y="1447920"/>
            <a:ext cx="1825920" cy="20574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sangele voinicului"/>
          <p:cNvPicPr/>
          <p:nvPr/>
        </p:nvPicPr>
        <p:blipFill>
          <a:blip r:embed="rId7"/>
          <a:stretch/>
        </p:blipFill>
        <p:spPr>
          <a:xfrm>
            <a:off x="6629400" y="1371600"/>
            <a:ext cx="2098800" cy="312408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380880" y="4114800"/>
            <a:ext cx="1981440" cy="198108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5105520" y="4343400"/>
            <a:ext cx="1487520" cy="182880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2362320" y="3733920"/>
            <a:ext cx="2819160" cy="2057400"/>
          </a:xfrm>
          <a:prstGeom prst="rect">
            <a:avLst/>
          </a:prstGeom>
          <a:ln w="0">
            <a:noFill/>
          </a:ln>
        </p:spPr>
      </p:pic>
      <p:sp>
        <p:nvSpPr>
          <p:cNvPr id="140" name="">
            <a:hlinkClick r:id="" action="ppaction://hlinkshowjump?jump=nextslide"/>
            <a:hlinkClick r:id="rId14"/>
          </p:cNvPr>
          <p:cNvSpPr/>
          <p:nvPr/>
        </p:nvSpPr>
        <p:spPr>
          <a:xfrm>
            <a:off x="3505320" y="579132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3794"/>
                </a:moveTo>
                <a:lnTo>
                  <a:pt x="23202" y="10800"/>
                </a:lnTo>
                <a:lnTo>
                  <a:pt x="9189" y="17806"/>
                </a:lnTo>
                <a:close/>
              </a:path>
            </a:pathLst>
          </a:cu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200040" y="228600"/>
            <a:ext cx="4724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Flori din F</a:t>
            </a:r>
            <a:r>
              <a:rPr b="0" lang="ro-RO" sz="4000" spc="-1" strike="noStrike">
                <a:solidFill>
                  <a:srgbClr val="ffffcc"/>
                </a:solidFill>
                <a:latin typeface="Arial"/>
              </a:rPr>
              <a:t>ă</a:t>
            </a: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g</a:t>
            </a:r>
            <a:r>
              <a:rPr b="0" lang="ro-RO" sz="4000" spc="-1" strike="noStrike">
                <a:solidFill>
                  <a:srgbClr val="ffffcc"/>
                </a:solidFill>
                <a:latin typeface="Arial"/>
              </a:rPr>
              <a:t>ă</a:t>
            </a: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ra</a:t>
            </a:r>
            <a:r>
              <a:rPr b="0" lang="ro-RO" sz="4000" spc="-1" strike="noStrike">
                <a:solidFill>
                  <a:srgbClr val="ffffcc"/>
                </a:solidFill>
                <a:latin typeface="Arial"/>
              </a:rPr>
              <a:t>ş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4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8600" y="3581280"/>
            <a:ext cx="2457360" cy="327672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200400" y="3505320"/>
            <a:ext cx="2514600" cy="335268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553080" y="3581280"/>
            <a:ext cx="2098800" cy="312444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304920" y="228600"/>
            <a:ext cx="2400120" cy="320040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5486400" y="838080"/>
            <a:ext cx="3505320" cy="262908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3276720" y="838080"/>
            <a:ext cx="1942920" cy="2590920"/>
          </a:xfrm>
          <a:prstGeom prst="rect">
            <a:avLst/>
          </a:prstGeom>
          <a:ln w="0">
            <a:noFill/>
          </a:ln>
        </p:spPr>
      </p:pic>
      <p:sp>
        <p:nvSpPr>
          <p:cNvPr id="148" name="">
            <a:hlinkClick r:id="" action="ppaction://hlinkshowjump?jump=nextslide"/>
            <a:hlinkClick r:id="rId13"/>
          </p:cNvPr>
          <p:cNvSpPr/>
          <p:nvPr/>
        </p:nvSpPr>
        <p:spPr>
          <a:xfrm>
            <a:off x="5715000" y="61722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3794"/>
                </a:moveTo>
                <a:lnTo>
                  <a:pt x="23202" y="10800"/>
                </a:lnTo>
                <a:lnTo>
                  <a:pt x="9189" y="17806"/>
                </a:lnTo>
                <a:close/>
              </a:path>
            </a:pathLst>
          </a:cu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80880" y="3429000"/>
            <a:ext cx="2919600" cy="31240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429000" y="3505320"/>
            <a:ext cx="2286000" cy="304776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324480" y="3505320"/>
            <a:ext cx="2343240" cy="312408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457200" y="228600"/>
            <a:ext cx="2666880" cy="312408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garofita dianthus spiculifolius"/>
          <p:cNvPicPr/>
          <p:nvPr/>
        </p:nvPicPr>
        <p:blipFill>
          <a:blip r:embed="rId9"/>
          <a:stretch/>
        </p:blipFill>
        <p:spPr>
          <a:xfrm>
            <a:off x="6172200" y="228600"/>
            <a:ext cx="2514600" cy="312408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Nu ma uita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3352680" y="228600"/>
            <a:ext cx="2411640" cy="3200400"/>
          </a:xfrm>
          <a:prstGeom prst="rect">
            <a:avLst/>
          </a:prstGeom>
          <a:ln w="0">
            <a:noFill/>
          </a:ln>
        </p:spPr>
      </p:pic>
      <p:sp>
        <p:nvSpPr>
          <p:cNvPr id="155" name="">
            <a:hlinkClick r:id="" action="ppaction://hlinkshowjump?jump=nextslide"/>
            <a:hlinkClick r:id="rId12"/>
          </p:cNvPr>
          <p:cNvSpPr/>
          <p:nvPr/>
        </p:nvSpPr>
        <p:spPr>
          <a:xfrm>
            <a:off x="57150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3794"/>
                </a:moveTo>
                <a:lnTo>
                  <a:pt x="23202" y="10800"/>
                </a:lnTo>
                <a:lnTo>
                  <a:pt x="9189" y="17806"/>
                </a:lnTo>
                <a:close/>
              </a:path>
            </a:pathLst>
          </a:cu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228600"/>
            <a:ext cx="1828800" cy="137160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934320" y="228600"/>
            <a:ext cx="2057400" cy="141300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Lucerna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152280" y="228600"/>
            <a:ext cx="1828800" cy="136512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Ce mica sunt...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1828800" y="1371600"/>
            <a:ext cx="1676520" cy="125244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Clopotel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3429000" y="2362320"/>
            <a:ext cx="1752480" cy="130788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Sunatoare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5029200" y="1066680"/>
            <a:ext cx="1905120" cy="142236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Garofita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6858000" y="2324160"/>
            <a:ext cx="2057400" cy="153648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Stiti cum se numesc?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5181480" y="3524400"/>
            <a:ext cx="1828800" cy="136512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Fisss!-tic">
            <a:hlinkClick r:id="rId17"/>
          </p:cNvPr>
          <p:cNvPicPr/>
          <p:nvPr/>
        </p:nvPicPr>
        <p:blipFill>
          <a:blip r:embed="rId18"/>
          <a:stretch/>
        </p:blipFill>
        <p:spPr>
          <a:xfrm>
            <a:off x="1828800" y="3657600"/>
            <a:ext cx="1676520" cy="125244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Ciufulici">
            <a:hlinkClick r:id="rId19"/>
          </p:cNvPr>
          <p:cNvPicPr/>
          <p:nvPr/>
        </p:nvPicPr>
        <p:blipFill>
          <a:blip r:embed="rId20"/>
          <a:stretch/>
        </p:blipFill>
        <p:spPr>
          <a:xfrm>
            <a:off x="0" y="2514600"/>
            <a:ext cx="1828800" cy="136512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Buchetel">
            <a:hlinkClick r:id="rId21"/>
          </p:cNvPr>
          <p:cNvPicPr/>
          <p:nvPr/>
        </p:nvPicPr>
        <p:blipFill>
          <a:blip r:embed="rId22"/>
          <a:stretch/>
        </p:blipFill>
        <p:spPr>
          <a:xfrm>
            <a:off x="0" y="4800600"/>
            <a:ext cx="1905120" cy="142416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Anghinare">
            <a:hlinkClick r:id="rId23"/>
          </p:cNvPr>
          <p:cNvPicPr/>
          <p:nvPr/>
        </p:nvPicPr>
        <p:blipFill>
          <a:blip r:embed="rId24"/>
          <a:stretch/>
        </p:blipFill>
        <p:spPr>
          <a:xfrm>
            <a:off x="6858000" y="4876920"/>
            <a:ext cx="2057400" cy="153648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Fantezie">
            <a:hlinkClick r:id="rId25"/>
          </p:cNvPr>
          <p:cNvPicPr/>
          <p:nvPr/>
        </p:nvPicPr>
        <p:blipFill>
          <a:blip r:embed="rId26"/>
          <a:stretch/>
        </p:blipFill>
        <p:spPr>
          <a:xfrm>
            <a:off x="3505320" y="4800600"/>
            <a:ext cx="1904760" cy="1420920"/>
          </a:xfrm>
          <a:prstGeom prst="rect">
            <a:avLst/>
          </a:prstGeom>
          <a:ln w="0">
            <a:noFill/>
          </a:ln>
        </p:spPr>
      </p:pic>
      <p:sp>
        <p:nvSpPr>
          <p:cNvPr id="169" name="">
            <a:hlinkClick r:id="" action="ppaction://hlinkshowjump?jump=nextslide"/>
            <a:hlinkClick r:id="rId27"/>
          </p:cNvPr>
          <p:cNvSpPr/>
          <p:nvPr/>
        </p:nvSpPr>
        <p:spPr>
          <a:xfrm>
            <a:off x="4114800" y="61722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3794"/>
                </a:moveTo>
                <a:lnTo>
                  <a:pt x="23202" y="10800"/>
                </a:lnTo>
                <a:lnTo>
                  <a:pt x="9189" y="17806"/>
                </a:lnTo>
                <a:close/>
              </a:path>
            </a:pathLst>
          </a:cu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Ma iubeste,&#13;&#10;Nu ma iubeste,&#13;&#10;Ma iubeste!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4920" y="152280"/>
            <a:ext cx="1809720" cy="135108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Si din patru cati au fost&#13;&#10;Au ramas doar trei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429000" y="4648320"/>
            <a:ext cx="2133720" cy="159372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O steluta ce-a cazut in iarba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486400" y="1295280"/>
            <a:ext cx="1828800" cy="136548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Floare de fraguta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7315200" y="228600"/>
            <a:ext cx="1676520" cy="125244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Cicoare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228600" y="2590920"/>
            <a:ext cx="1905120" cy="142236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Doi ochi (dar nu albastrii)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1981080" y="1295280"/>
            <a:ext cx="1752840" cy="130968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Stanjenel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7315200" y="2666880"/>
            <a:ext cx="1600200" cy="119556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Flora Piatra Craiului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3276720" y="2590920"/>
            <a:ext cx="2514600" cy="188568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Floare de colţ"/>
          <p:cNvPicPr/>
          <p:nvPr/>
        </p:nvPicPr>
        <p:blipFill>
          <a:blip r:embed="rId17"/>
          <a:stretch/>
        </p:blipFill>
        <p:spPr>
          <a:xfrm>
            <a:off x="5791320" y="3962520"/>
            <a:ext cx="1981080" cy="140148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violete de munte">
            <a:hlinkClick r:id="rId18"/>
          </p:cNvPr>
          <p:cNvPicPr/>
          <p:nvPr/>
        </p:nvPicPr>
        <p:blipFill>
          <a:blip r:embed="rId19"/>
          <a:stretch/>
        </p:blipFill>
        <p:spPr>
          <a:xfrm>
            <a:off x="6781680" y="5334120"/>
            <a:ext cx="2057400" cy="12808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violete de creasta">
            <a:hlinkClick r:id="rId20"/>
          </p:cNvPr>
          <p:cNvPicPr/>
          <p:nvPr/>
        </p:nvPicPr>
        <p:blipFill>
          <a:blip r:embed="rId21"/>
          <a:stretch/>
        </p:blipFill>
        <p:spPr>
          <a:xfrm>
            <a:off x="228600" y="5257800"/>
            <a:ext cx="1905120" cy="116532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clopotei crescuti in munti">
            <a:hlinkClick r:id="rId22"/>
          </p:cNvPr>
          <p:cNvPicPr/>
          <p:nvPr/>
        </p:nvPicPr>
        <p:blipFill>
          <a:blip r:embed="rId23"/>
          <a:stretch/>
        </p:blipFill>
        <p:spPr>
          <a:xfrm>
            <a:off x="3657600" y="228600"/>
            <a:ext cx="1828800" cy="111924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>
            <a:hlinkClick r:id="rId24"/>
          </p:cNvPr>
          <p:cNvPicPr/>
          <p:nvPr/>
        </p:nvPicPr>
        <p:blipFill>
          <a:blip r:embed="rId25"/>
          <a:stretch/>
        </p:blipFill>
        <p:spPr>
          <a:xfrm>
            <a:off x="1978200" y="4114800"/>
            <a:ext cx="1298520" cy="1905120"/>
          </a:xfrm>
          <a:prstGeom prst="rect">
            <a:avLst/>
          </a:prstGeom>
          <a:ln w="0">
            <a:noFill/>
          </a:ln>
        </p:spPr>
      </p:pic>
      <p:sp>
        <p:nvSpPr>
          <p:cNvPr id="183" name="">
            <a:hlinkClick r:id="" action="ppaction://hlinkshowjump?jump=nextslide"/>
            <a:hlinkClick r:id="rId26"/>
          </p:cNvPr>
          <p:cNvSpPr/>
          <p:nvPr/>
        </p:nvSpPr>
        <p:spPr>
          <a:xfrm>
            <a:off x="3809880" y="624852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3794"/>
                </a:moveTo>
                <a:lnTo>
                  <a:pt x="23202" y="10800"/>
                </a:lnTo>
                <a:lnTo>
                  <a:pt x="9189" y="17806"/>
                </a:lnTo>
                <a:close/>
              </a:path>
            </a:pathLst>
          </a:cu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895120" y="304920"/>
            <a:ext cx="342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ffffcc"/>
                </a:solidFill>
                <a:latin typeface="Arial"/>
              </a:rPr>
              <a:t>Brazi şi stejari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85" name="" descr="Paduri de conifere in Munţii Gutâi"/>
          <p:cNvPicPr/>
          <p:nvPr/>
        </p:nvPicPr>
        <p:blipFill>
          <a:blip r:embed="rId1"/>
          <a:stretch/>
        </p:blipFill>
        <p:spPr>
          <a:xfrm>
            <a:off x="3200400" y="914400"/>
            <a:ext cx="3124080" cy="234324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3124080" y="3657600"/>
            <a:ext cx="3276720" cy="218448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400800" y="990720"/>
            <a:ext cx="2743200" cy="411480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5"/>
          <a:stretch/>
        </p:blipFill>
        <p:spPr>
          <a:xfrm>
            <a:off x="0" y="762120"/>
            <a:ext cx="3135240" cy="4572000"/>
          </a:xfrm>
          <a:prstGeom prst="rect">
            <a:avLst/>
          </a:prstGeom>
          <a:ln w="0">
            <a:noFill/>
          </a:ln>
        </p:spPr>
      </p:pic>
      <p:sp>
        <p:nvSpPr>
          <p:cNvPr id="189" name="">
            <a:hlinkClick r:id="" action="ppaction://hlinkshowjump?jump=nextslide"/>
            <a:hlinkClick r:id="rId6"/>
          </p:cNvPr>
          <p:cNvSpPr/>
          <p:nvPr/>
        </p:nvSpPr>
        <p:spPr>
          <a:xfrm>
            <a:off x="3962520" y="624852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3794"/>
                </a:moveTo>
                <a:lnTo>
                  <a:pt x="23202" y="10800"/>
                </a:lnTo>
                <a:lnTo>
                  <a:pt x="9189" y="17806"/>
                </a:lnTo>
                <a:close/>
              </a:path>
            </a:pathLst>
          </a:cu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9:22:18Z</dcterms:created>
  <dc:creator>Bud</dc:creator>
  <dc:description/>
  <dc:language>en-US</dc:language>
  <cp:lastModifiedBy>IULIA</cp:lastModifiedBy>
  <dcterms:modified xsi:type="dcterms:W3CDTF">2009-10-10T19:30:53Z</dcterms:modified>
  <cp:revision>12</cp:revision>
  <dc:subject/>
  <dc:title>CARPATII</dc:title>
</cp:coreProperties>
</file>